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5927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907B-8DC4-467D-8647-E1C24B285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9640" y="1723680"/>
            <a:ext cx="275331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9640" y="10110240"/>
            <a:ext cx="2753316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29640" y="23199120"/>
            <a:ext cx="2753316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70F0-4F65-4813-9BB5-93F2800BB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9640" y="1723680"/>
            <a:ext cx="275331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9640" y="10110240"/>
            <a:ext cx="1343592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37680" y="10110240"/>
            <a:ext cx="1343592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9640" y="23199120"/>
            <a:ext cx="1343592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15637680" y="23199120"/>
            <a:ext cx="1343592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ED45-CA84-487C-B58C-B7709FD26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9640" y="1723680"/>
            <a:ext cx="275331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9640" y="10110240"/>
            <a:ext cx="886536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838520" y="10110240"/>
            <a:ext cx="886536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147760" y="10110240"/>
            <a:ext cx="886536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529640" y="23199120"/>
            <a:ext cx="886536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0838520" y="23199120"/>
            <a:ext cx="886536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0147760" y="23199120"/>
            <a:ext cx="886536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8A03-B210-43A5-8BFC-76784CA03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9640" y="1723680"/>
            <a:ext cx="275331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529640" y="10110240"/>
            <a:ext cx="27533160" cy="250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5A88-F095-484D-B802-9A3B566AD9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9640" y="1723680"/>
            <a:ext cx="275331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529640" y="10110240"/>
            <a:ext cx="27533160" cy="250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4BD0-C592-4449-97C7-97A4D7856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9640" y="1723680"/>
            <a:ext cx="275331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9640" y="10110240"/>
            <a:ext cx="13435920" cy="250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15637680" y="10110240"/>
            <a:ext cx="13435920" cy="250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92F7-196B-46E3-B93B-22770A855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9640" y="1723680"/>
            <a:ext cx="275331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4E3C-49C7-45DA-85DB-A0E93D45F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529640" y="1723680"/>
            <a:ext cx="27533160" cy="334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63BA-F775-4856-B036-38CA7DA2C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9640" y="1723680"/>
            <a:ext cx="275331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9640" y="10110240"/>
            <a:ext cx="1343592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5637680" y="10110240"/>
            <a:ext cx="13435920" cy="250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529640" y="23199120"/>
            <a:ext cx="1343592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38FD-3ED5-43DD-9783-230E2C059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9640" y="1723680"/>
            <a:ext cx="275331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9640" y="10110240"/>
            <a:ext cx="13435920" cy="250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637680" y="10110240"/>
            <a:ext cx="1343592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637680" y="23199120"/>
            <a:ext cx="1343592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96F0-15E5-4EEF-8B42-5F2B6555B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9640" y="1723680"/>
            <a:ext cx="2753316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9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9640" y="10110240"/>
            <a:ext cx="1343592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637680" y="10110240"/>
            <a:ext cx="1343592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9640" y="23199120"/>
            <a:ext cx="27533160" cy="119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00F2-97B4-4DF0-BDC7-0253A8479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28057320" y="41202000"/>
            <a:ext cx="8496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700" spc="-1" strike="noStrike">
                <a:solidFill>
                  <a:srgbClr val="878787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0D88-D0C2-4600-A208-43A001130930}" type="slidenum">
              <a:rPr b="0" lang="en-US" sz="5700" spc="-1" strike="noStrike">
                <a:solidFill>
                  <a:srgbClr val="878787"/>
                </a:solidFill>
                <a:latin typeface="Calibri"/>
                <a:ea typeface="Calibri"/>
              </a:rPr>
              <a:t>&lt;number&gt;</a:t>
            </a:fld>
            <a:endParaRPr b="0" lang="en-US" sz="5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hyperlink" Target="http://physics4u.files.wordpress.com/2009/09/melting_ice.jpg" TargetMode="External"/><Relationship Id="rId19" Type="http://schemas.openxmlformats.org/officeDocument/2006/relationships/image" Target="../media/image18.jpeg"/><Relationship Id="rId20" Type="http://schemas.openxmlformats.org/officeDocument/2006/relationships/image" Target="../media/image19.jpeg"/><Relationship Id="rId21" Type="http://schemas.openxmlformats.org/officeDocument/2006/relationships/image" Target="../media/image1.jpeg"/><Relationship Id="rId22" Type="http://schemas.openxmlformats.org/officeDocument/2006/relationships/image" Target="../media/image20.jpeg"/><Relationship Id="rId23" Type="http://schemas.openxmlformats.org/officeDocument/2006/relationships/image" Target="../media/image21.jpeg"/><Relationship Id="rId24" Type="http://schemas.openxmlformats.org/officeDocument/2006/relationships/image" Target="../media/image22.png"/><Relationship Id="rId25" Type="http://schemas.openxmlformats.org/officeDocument/2006/relationships/hyperlink" Target="http://www.exploratorium.edu/climate/atmosphere/index.html" TargetMode="External"/><Relationship Id="rId26" Type="http://schemas.openxmlformats.org/officeDocument/2006/relationships/hyperlink" Target="http://www.exploratorium.edu/climate/atmosphere/index.html" TargetMode="External"/><Relationship Id="rId27" Type="http://schemas.openxmlformats.org/officeDocument/2006/relationships/hyperlink" Target="http://www.exploratorium.edu/climate/atmosphere/index.html" TargetMode="External"/><Relationship Id="rId28" Type="http://schemas.openxmlformats.org/officeDocument/2006/relationships/hyperlink" Target="http://www.exploratorium.edu/climate/atmosphere/index.html" TargetMode="External"/><Relationship Id="rId29" Type="http://schemas.openxmlformats.org/officeDocument/2006/relationships/hyperlink" Target="http://www.exploratorium.edu/climate/atmosphere/index.html" TargetMode="External"/><Relationship Id="rId30" Type="http://schemas.openxmlformats.org/officeDocument/2006/relationships/hyperlink" Target="http://www.exploratorium.edu/climate/atmosphere/index.html" TargetMode="External"/><Relationship Id="rId31" Type="http://schemas.openxmlformats.org/officeDocument/2006/relationships/hyperlink" Target="http://www.exploratorium.edu/climate/atmosphere/index.html" TargetMode="External"/><Relationship Id="rId32" Type="http://schemas.openxmlformats.org/officeDocument/2006/relationships/hyperlink" Target="http://www.exploratorium.edu/climate/atmosphere/index.html" TargetMode="External"/><Relationship Id="rId33" Type="http://schemas.openxmlformats.org/officeDocument/2006/relationships/hyperlink" Target="http://www.exploratorium.edu/climate/atmosphere/index.html" TargetMode="External"/><Relationship Id="rId34" Type="http://schemas.openxmlformats.org/officeDocument/2006/relationships/hyperlink" Target="http://www.exploratorium.edu/climate/atmosphere/index.html" TargetMode="External"/><Relationship Id="rId35" Type="http://schemas.openxmlformats.org/officeDocument/2006/relationships/hyperlink" Target="http://www.exploratorium.edu/climate/atmosphere/index.html" TargetMode="External"/><Relationship Id="rId36" Type="http://schemas.openxmlformats.org/officeDocument/2006/relationships/hyperlink" Target="http://www.exploratorium.edu/climate/atmosphere/index.html" TargetMode="External"/><Relationship Id="rId37" Type="http://schemas.openxmlformats.org/officeDocument/2006/relationships/hyperlink" Target="http://www.exploratorium.edu/climate/atmosphere/index.html" TargetMode="External"/><Relationship Id="rId38" Type="http://schemas.openxmlformats.org/officeDocument/2006/relationships/hyperlink" Target="http://www.exploratorium.edu/climate/atmosphere/index.html" TargetMode="External"/><Relationship Id="rId39" Type="http://schemas.openxmlformats.org/officeDocument/2006/relationships/hyperlink" Target="http://www.exploratorium.edu/climate/atmosphere/index.html" TargetMode="External"/><Relationship Id="rId40" Type="http://schemas.openxmlformats.org/officeDocument/2006/relationships/hyperlink" Target="http://archive.greenpeace.org/climate/science/reports/desertification.html" TargetMode="External"/><Relationship Id="rId41" Type="http://schemas.openxmlformats.org/officeDocument/2006/relationships/hyperlink" Target="http://archive.greenpeace.org/climate/science/reports/desertification.html" TargetMode="External"/><Relationship Id="rId42" Type="http://schemas.openxmlformats.org/officeDocument/2006/relationships/hyperlink" Target="http://archive.greenpeace.org/climate/science/reports/desertification.html" TargetMode="External"/><Relationship Id="rId43" Type="http://schemas.openxmlformats.org/officeDocument/2006/relationships/hyperlink" Target="http://archive.greenpeace.org/climate/science/reports/desertification.html" TargetMode="External"/><Relationship Id="rId44" Type="http://schemas.openxmlformats.org/officeDocument/2006/relationships/hyperlink" Target="http://archive.greenpeace.org/climate/science/reports/desertification.html" TargetMode="External"/><Relationship Id="rId45" Type="http://schemas.openxmlformats.org/officeDocument/2006/relationships/hyperlink" Target="http://archive.greenpeace.org/climate/science/reports/desertification.html" TargetMode="External"/><Relationship Id="rId46" Type="http://schemas.openxmlformats.org/officeDocument/2006/relationships/hyperlink" Target="http://archive.greenpeace.org/climate/science/reports/desertification.html" TargetMode="External"/><Relationship Id="rId47" Type="http://schemas.openxmlformats.org/officeDocument/2006/relationships/hyperlink" Target="http://archive.greenpeace.org/climate/science/reports/desertification.html" TargetMode="External"/><Relationship Id="rId48" Type="http://schemas.openxmlformats.org/officeDocument/2006/relationships/hyperlink" Target="http://archive.greenpeace.org/climate/science/reports/desertification.html" TargetMode="External"/><Relationship Id="rId49" Type="http://schemas.openxmlformats.org/officeDocument/2006/relationships/hyperlink" Target="http://archive.greenpeace.org/climate/science/reports/desertification.html" TargetMode="External"/><Relationship Id="rId50" Type="http://schemas.openxmlformats.org/officeDocument/2006/relationships/hyperlink" Target="http://archive.greenpeace.org/climate/science/reports/desertification.html" TargetMode="External"/><Relationship Id="rId51" Type="http://schemas.openxmlformats.org/officeDocument/2006/relationships/hyperlink" Target="http://archive.greenpeace.org/climate/science/reports/desertification.html" TargetMode="External"/><Relationship Id="rId52" Type="http://schemas.openxmlformats.org/officeDocument/2006/relationships/hyperlink" Target="http://archive.greenpeace.org/climate/science/reports/desertification.html" TargetMode="External"/><Relationship Id="rId53" Type="http://schemas.openxmlformats.org/officeDocument/2006/relationships/hyperlink" Target="http://archive.greenpeace.org/climate/science/reports/desertification.html" TargetMode="External"/><Relationship Id="rId54" Type="http://schemas.openxmlformats.org/officeDocument/2006/relationships/hyperlink" Target="http://archive.greenpeace.org/climate/science/reports/desertification.html" TargetMode="External"/><Relationship Id="rId55" Type="http://schemas.openxmlformats.org/officeDocument/2006/relationships/hyperlink" Target="http://archive.greenpeace.org/climate/science/reports/desertification.html" TargetMode="External"/><Relationship Id="rId56" Type="http://schemas.openxmlformats.org/officeDocument/2006/relationships/hyperlink" Target="http://archive.greenpeace.org/climate/science/reports/desertification.html" TargetMode="External"/><Relationship Id="rId57" Type="http://schemas.openxmlformats.org/officeDocument/2006/relationships/hyperlink" Target="http://www.cyprus.gov.cy/moa/agriculture.nsf" TargetMode="External"/><Relationship Id="rId58" Type="http://schemas.openxmlformats.org/officeDocument/2006/relationships/hyperlink" Target="http://www.cyprus.gov.cy/moa/agriculture.nsf" TargetMode="External"/><Relationship Id="rId59" Type="http://schemas.openxmlformats.org/officeDocument/2006/relationships/hyperlink" Target="http://www.cyprus.gov.cy/moa/agriculture.nsf" TargetMode="External"/><Relationship Id="rId60" Type="http://schemas.openxmlformats.org/officeDocument/2006/relationships/hyperlink" Target="http://www.cyprus.gov.cy/moa/agriculture.nsf" TargetMode="External"/><Relationship Id="rId61" Type="http://schemas.openxmlformats.org/officeDocument/2006/relationships/hyperlink" Target="http://www.cyprus.gov.cy/moa/agriculture.nsf" TargetMode="External"/><Relationship Id="rId62" Type="http://schemas.openxmlformats.org/officeDocument/2006/relationships/hyperlink" Target="http://www.cyprus.gov.cy/moa/agriculture.nsf" TargetMode="External"/><Relationship Id="rId63" Type="http://schemas.openxmlformats.org/officeDocument/2006/relationships/hyperlink" Target="http://www.cyprus.gov.cy/moa/agriculture.nsf" TargetMode="External"/><Relationship Id="rId64" Type="http://schemas.openxmlformats.org/officeDocument/2006/relationships/hyperlink" Target="http://www.cyprus.gov.cy/moa/agriculture.nsf" TargetMode="External"/><Relationship Id="rId65" Type="http://schemas.openxmlformats.org/officeDocument/2006/relationships/hyperlink" Target="http://www.cyprus.gov.cy/moa/agriculture.nsf" TargetMode="External"/><Relationship Id="rId66" Type="http://schemas.openxmlformats.org/officeDocument/2006/relationships/hyperlink" Target="http://www.cyprus.gov.cy/moa/agriculture.nsf" TargetMode="External"/><Relationship Id="rId67" Type="http://schemas.openxmlformats.org/officeDocument/2006/relationships/hyperlink" Target="http://www.cyprus.gov.cy/moa/agriculture.nsf" TargetMode="External"/><Relationship Id="rId68" Type="http://schemas.openxmlformats.org/officeDocument/2006/relationships/hyperlink" Target="http://www.cyprus.gov.cy/moa/agriculture.nsf" TargetMode="External"/><Relationship Id="rId69" Type="http://schemas.openxmlformats.org/officeDocument/2006/relationships/hyperlink" Target="http://www.cyprus.gov.cy/moa/agriculture.nsf" TargetMode="External"/><Relationship Id="rId70" Type="http://schemas.openxmlformats.org/officeDocument/2006/relationships/hyperlink" Target="http://www.cyprus.gov.cy/moa/agriculture.nsf" TargetMode="External"/><Relationship Id="rId7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9"/>
          <p:cNvGrpSpPr/>
          <p:nvPr/>
        </p:nvGrpSpPr>
        <p:grpSpPr>
          <a:xfrm>
            <a:off x="6718320" y="17119440"/>
            <a:ext cx="9410400" cy="876240"/>
            <a:chOff x="6718320" y="17119440"/>
            <a:chExt cx="9410400" cy="876240"/>
          </a:xfrm>
        </p:grpSpPr>
        <p:grpSp>
          <p:nvGrpSpPr>
            <p:cNvPr id="38" name="Group 3"/>
            <p:cNvGrpSpPr/>
            <p:nvPr/>
          </p:nvGrpSpPr>
          <p:grpSpPr>
            <a:xfrm>
              <a:off x="14033520" y="17119440"/>
              <a:ext cx="2095200" cy="787320"/>
              <a:chOff x="14033520" y="17119440"/>
              <a:chExt cx="2095200" cy="787320"/>
            </a:xfrm>
          </p:grpSpPr>
          <p:sp>
            <p:nvSpPr>
              <p:cNvPr id="39" name="Line 1"/>
              <p:cNvSpPr/>
              <p:nvPr/>
            </p:nvSpPr>
            <p:spPr>
              <a:xfrm flipV="1">
                <a:off x="16103520" y="17119440"/>
                <a:ext cx="0" cy="787320"/>
              </a:xfrm>
              <a:prstGeom prst="line">
                <a:avLst/>
              </a:prstGeom>
              <a:ln w="63360">
                <a:solidFill>
                  <a:srgbClr val="a408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" name="Line 2"/>
              <p:cNvSpPr/>
              <p:nvPr/>
            </p:nvSpPr>
            <p:spPr>
              <a:xfrm>
                <a:off x="14033520" y="17128800"/>
                <a:ext cx="2095200" cy="0"/>
              </a:xfrm>
              <a:prstGeom prst="line">
                <a:avLst/>
              </a:prstGeom>
              <a:ln w="63360">
                <a:solidFill>
                  <a:srgbClr val="a40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41" name="Line 4"/>
            <p:cNvSpPr/>
            <p:nvPr/>
          </p:nvSpPr>
          <p:spPr>
            <a:xfrm flipV="1">
              <a:off x="12953880" y="17170200"/>
              <a:ext cx="0" cy="787320"/>
            </a:xfrm>
            <a:prstGeom prst="line">
              <a:avLst/>
            </a:prstGeom>
            <a:ln w="63360">
              <a:solidFill>
                <a:srgbClr val="a408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" name="Line 5"/>
            <p:cNvSpPr/>
            <p:nvPr/>
          </p:nvSpPr>
          <p:spPr>
            <a:xfrm flipV="1">
              <a:off x="9931320" y="17208360"/>
              <a:ext cx="0" cy="787320"/>
            </a:xfrm>
            <a:prstGeom prst="line">
              <a:avLst/>
            </a:prstGeom>
            <a:ln w="63360">
              <a:solidFill>
                <a:srgbClr val="a408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43" name="Group 8"/>
            <p:cNvGrpSpPr/>
            <p:nvPr/>
          </p:nvGrpSpPr>
          <p:grpSpPr>
            <a:xfrm>
              <a:off x="6718320" y="17170200"/>
              <a:ext cx="2093760" cy="787320"/>
              <a:chOff x="6718320" y="17170200"/>
              <a:chExt cx="2093760" cy="787320"/>
            </a:xfrm>
          </p:grpSpPr>
          <p:sp>
            <p:nvSpPr>
              <p:cNvPr id="44" name="Line 6"/>
              <p:cNvSpPr/>
              <p:nvPr/>
            </p:nvSpPr>
            <p:spPr>
              <a:xfrm flipV="1">
                <a:off x="6718320" y="17170200"/>
                <a:ext cx="0" cy="787320"/>
              </a:xfrm>
              <a:prstGeom prst="line">
                <a:avLst/>
              </a:prstGeom>
              <a:ln w="63360">
                <a:solidFill>
                  <a:srgbClr val="a408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5" name="Line 7"/>
              <p:cNvSpPr/>
              <p:nvPr/>
            </p:nvSpPr>
            <p:spPr>
              <a:xfrm>
                <a:off x="6718320" y="17182800"/>
                <a:ext cx="2093760" cy="0"/>
              </a:xfrm>
              <a:prstGeom prst="line">
                <a:avLst/>
              </a:prstGeom>
              <a:ln w="63360">
                <a:solidFill>
                  <a:srgbClr val="a40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46" name="Group 18"/>
          <p:cNvGrpSpPr/>
          <p:nvPr/>
        </p:nvGrpSpPr>
        <p:grpSpPr>
          <a:xfrm>
            <a:off x="6718320" y="15252840"/>
            <a:ext cx="9410400" cy="876240"/>
            <a:chOff x="6718320" y="15252840"/>
            <a:chExt cx="9410400" cy="876240"/>
          </a:xfrm>
        </p:grpSpPr>
        <p:grpSp>
          <p:nvGrpSpPr>
            <p:cNvPr id="47" name="Group 12"/>
            <p:cNvGrpSpPr/>
            <p:nvPr/>
          </p:nvGrpSpPr>
          <p:grpSpPr>
            <a:xfrm>
              <a:off x="14033520" y="15341760"/>
              <a:ext cx="2095200" cy="787320"/>
              <a:chOff x="14033520" y="15341760"/>
              <a:chExt cx="2095200" cy="787320"/>
            </a:xfrm>
          </p:grpSpPr>
          <p:sp>
            <p:nvSpPr>
              <p:cNvPr id="48" name="Line 10"/>
              <p:cNvSpPr/>
              <p:nvPr/>
            </p:nvSpPr>
            <p:spPr>
              <a:xfrm>
                <a:off x="16103520" y="15341760"/>
                <a:ext cx="0" cy="787320"/>
              </a:xfrm>
              <a:prstGeom prst="line">
                <a:avLst/>
              </a:prstGeom>
              <a:ln w="63360">
                <a:solidFill>
                  <a:srgbClr val="a408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>
                <a:off x="14033520" y="16119720"/>
                <a:ext cx="2095200" cy="0"/>
              </a:xfrm>
              <a:prstGeom prst="line">
                <a:avLst/>
              </a:prstGeom>
              <a:ln w="63360">
                <a:solidFill>
                  <a:srgbClr val="a40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50" name="Line 13"/>
            <p:cNvSpPr/>
            <p:nvPr/>
          </p:nvSpPr>
          <p:spPr>
            <a:xfrm>
              <a:off x="12953880" y="15291000"/>
              <a:ext cx="0" cy="787320"/>
            </a:xfrm>
            <a:prstGeom prst="line">
              <a:avLst/>
            </a:prstGeom>
            <a:ln w="63360">
              <a:solidFill>
                <a:srgbClr val="a408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" name="Line 14"/>
            <p:cNvSpPr/>
            <p:nvPr/>
          </p:nvSpPr>
          <p:spPr>
            <a:xfrm>
              <a:off x="9931320" y="15252840"/>
              <a:ext cx="0" cy="787320"/>
            </a:xfrm>
            <a:prstGeom prst="line">
              <a:avLst/>
            </a:prstGeom>
            <a:ln w="63360">
              <a:solidFill>
                <a:srgbClr val="a408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2" name="Group 17"/>
            <p:cNvGrpSpPr/>
            <p:nvPr/>
          </p:nvGrpSpPr>
          <p:grpSpPr>
            <a:xfrm>
              <a:off x="6718320" y="15291000"/>
              <a:ext cx="2093760" cy="787320"/>
              <a:chOff x="6718320" y="15291000"/>
              <a:chExt cx="2093760" cy="787320"/>
            </a:xfrm>
          </p:grpSpPr>
          <p:sp>
            <p:nvSpPr>
              <p:cNvPr id="53" name="Line 15"/>
              <p:cNvSpPr/>
              <p:nvPr/>
            </p:nvSpPr>
            <p:spPr>
              <a:xfrm>
                <a:off x="6718320" y="15291000"/>
                <a:ext cx="0" cy="787320"/>
              </a:xfrm>
              <a:prstGeom prst="line">
                <a:avLst/>
              </a:prstGeom>
              <a:ln w="63360">
                <a:solidFill>
                  <a:srgbClr val="a408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>
                <a:off x="6718320" y="16065720"/>
                <a:ext cx="2093760" cy="0"/>
              </a:xfrm>
              <a:prstGeom prst="line">
                <a:avLst/>
              </a:prstGeom>
              <a:ln w="63360">
                <a:solidFill>
                  <a:srgbClr val="a40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55" name="Group 21"/>
          <p:cNvGrpSpPr/>
          <p:nvPr/>
        </p:nvGrpSpPr>
        <p:grpSpPr>
          <a:xfrm>
            <a:off x="12789000" y="29845080"/>
            <a:ext cx="2870280" cy="1574640"/>
            <a:chOff x="12789000" y="29845080"/>
            <a:chExt cx="2870280" cy="1574640"/>
          </a:xfrm>
        </p:grpSpPr>
        <p:sp>
          <p:nvSpPr>
            <p:cNvPr id="56" name="Rectangle 19"/>
            <p:cNvSpPr/>
            <p:nvPr/>
          </p:nvSpPr>
          <p:spPr>
            <a:xfrm>
              <a:off x="12789000" y="29845080"/>
              <a:ext cx="2870280" cy="15732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57" name="Picture 20" descr=""/>
            <p:cNvPicPr/>
            <p:nvPr/>
          </p:nvPicPr>
          <p:blipFill>
            <a:blip r:embed="rId1"/>
            <a:stretch/>
          </p:blipFill>
          <p:spPr>
            <a:xfrm>
              <a:off x="12789000" y="29845080"/>
              <a:ext cx="2868480" cy="15746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58" name="Picture 22" descr=""/>
          <p:cNvPicPr/>
          <p:nvPr/>
        </p:nvPicPr>
        <p:blipFill>
          <a:blip r:embed="rId2"/>
          <a:stretch/>
        </p:blipFill>
        <p:spPr>
          <a:xfrm>
            <a:off x="27682920" y="4032360"/>
            <a:ext cx="2519280" cy="192384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5"/>
          <p:cNvGrpSpPr/>
          <p:nvPr/>
        </p:nvGrpSpPr>
        <p:grpSpPr>
          <a:xfrm>
            <a:off x="2855880" y="-608040"/>
            <a:ext cx="24861960" cy="5857560"/>
            <a:chOff x="2855880" y="-608040"/>
            <a:chExt cx="24861960" cy="5857560"/>
          </a:xfrm>
        </p:grpSpPr>
        <p:sp>
          <p:nvSpPr>
            <p:cNvPr id="60" name="AutoShape 23"/>
            <p:cNvSpPr/>
            <p:nvPr/>
          </p:nvSpPr>
          <p:spPr>
            <a:xfrm>
              <a:off x="2876400" y="433080"/>
              <a:ext cx="24841440" cy="4816440"/>
            </a:xfrm>
            <a:prstGeom prst="roundRect">
              <a:avLst>
                <a:gd name="adj" fmla="val 16657"/>
              </a:avLst>
            </a:prstGeom>
            <a:solidFill>
              <a:srgbClr val="eee6e8"/>
            </a:solidFill>
            <a:ln w="25560">
              <a:solidFill>
                <a:srgbClr val="0a51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2855880" y="-608040"/>
              <a:ext cx="24765120" cy="57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Η </a:t>
              </a:r>
              <a:r>
                <a:rPr b="1" lang="en-US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Εισαγωγή</a:t>
              </a:r>
              <a:r>
                <a:rPr b="1" lang="en-US" sz="5400" spc="-1" strike="noStrike">
                  <a:solidFill>
                    <a:srgbClr val="0b5394"/>
                  </a:solidFill>
                  <a:latin typeface="Arial Black"/>
                  <a:ea typeface="Arial Black"/>
                </a:rPr>
                <a:t> </a:t>
              </a:r>
              <a:r>
                <a:rPr b="1" lang="en-US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της</a:t>
              </a:r>
              <a:r>
                <a:rPr b="1" lang="en-US" sz="5400" spc="-1" strike="noStrike">
                  <a:solidFill>
                    <a:srgbClr val="0b5394"/>
                  </a:solidFill>
                  <a:latin typeface="Arial Black"/>
                  <a:ea typeface="Arial Black"/>
                </a:rPr>
                <a:t> </a:t>
              </a:r>
              <a:r>
                <a:rPr b="1" lang="en-US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Πράσινης</a:t>
              </a:r>
              <a:r>
                <a:rPr b="1" lang="en-US" sz="5400" spc="-1" strike="noStrike">
                  <a:solidFill>
                    <a:srgbClr val="0b5394"/>
                  </a:solidFill>
                  <a:latin typeface="Arial Black"/>
                  <a:ea typeface="Arial Black"/>
                </a:rPr>
                <a:t> </a:t>
              </a:r>
              <a:r>
                <a:rPr b="1" lang="en-US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Χημείας</a:t>
              </a:r>
              <a:r>
                <a:rPr b="1" lang="en-US" sz="5400" spc="-1" strike="noStrike">
                  <a:solidFill>
                    <a:srgbClr val="0b5394"/>
                  </a:solidFill>
                  <a:latin typeface="Arial Black"/>
                  <a:ea typeface="Arial Black"/>
                </a:rPr>
                <a:t> </a:t>
              </a:r>
              <a:r>
                <a:rPr b="1" lang="en-US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στην</a:t>
              </a:r>
              <a:r>
                <a:rPr b="1" lang="en-US" sz="5400" spc="-1" strike="noStrike">
                  <a:solidFill>
                    <a:srgbClr val="0b5394"/>
                  </a:solidFill>
                  <a:latin typeface="Arial Black"/>
                  <a:ea typeface="Arial Black"/>
                </a:rPr>
                <a:t> </a:t>
              </a:r>
              <a:r>
                <a:rPr b="1" lang="en-US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Πρωτοβάθμια</a:t>
              </a:r>
              <a:r>
                <a:rPr b="1" lang="en-US" sz="5400" spc="-1" strike="noStrike">
                  <a:solidFill>
                    <a:srgbClr val="0b5394"/>
                  </a:solidFill>
                  <a:latin typeface="Arial Black"/>
                  <a:ea typeface="Arial Black"/>
                </a:rPr>
                <a:t> </a:t>
              </a:r>
              <a:r>
                <a:rPr b="1" lang="en-US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Εκπαίδευση</a:t>
              </a:r>
              <a:endParaRPr b="0" lang="en-US" sz="5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	</a:t>
              </a:r>
              <a:r>
                <a:rPr b="1" lang="en-US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	</a:t>
              </a:r>
              <a:r>
                <a:rPr b="1" lang="el-GR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Η </a:t>
              </a:r>
              <a:r>
                <a:rPr b="1" lang="en-US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Κλιματική</a:t>
              </a:r>
              <a:r>
                <a:rPr b="1" lang="en-US" sz="5400" spc="-1" strike="noStrike">
                  <a:solidFill>
                    <a:srgbClr val="0b5394"/>
                  </a:solidFill>
                  <a:latin typeface="Arial Black"/>
                  <a:ea typeface="Arial Black"/>
                </a:rPr>
                <a:t> </a:t>
              </a:r>
              <a:r>
                <a:rPr b="1" lang="en-US" sz="5400" spc="-1" strike="noStrike">
                  <a:solidFill>
                    <a:srgbClr val="0b5394"/>
                  </a:solidFill>
                  <a:latin typeface="Lucida Grande"/>
                  <a:ea typeface="Lucida Grande"/>
                </a:rPr>
                <a:t>Αλλαγή</a:t>
              </a:r>
              <a:r>
                <a:rPr b="1" lang="en-US" sz="5400" spc="-1" strike="noStrike">
                  <a:solidFill>
                    <a:srgbClr val="0b5394"/>
                  </a:solidFill>
                  <a:latin typeface="Arial Black"/>
                  <a:ea typeface="Arial Black"/>
                </a:rPr>
                <a:t> (II)</a:t>
              </a:r>
              <a:endParaRPr b="0" lang="en-US" sz="5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b5394"/>
                  </a:solidFill>
                  <a:latin typeface="Arial Narrow Bold"/>
                  <a:ea typeface="Arial Narrow Bold"/>
                </a:rPr>
                <a:t>ΑΡΙΣΤΟΤΕΛΕΙΟ ΠΑΝΕΠΙΣΤΗΜΙΟ ΘΕΣΣΑΛΟΝΙΚΗΣ, ΤΜΗΜΑ  ΧΗΜΕΙΑΣ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Τσιάλμα</a:t>
              </a:r>
              <a:r>
                <a:rPr b="1" lang="en-US" sz="4800" spc="-1" strike="noStrike" baseline="30000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1</a:t>
              </a:r>
              <a:r>
                <a:rPr b="1" lang="en-US" sz="4800" spc="-1" strike="noStrike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 Κ., Μαρούλης</a:t>
              </a:r>
              <a:r>
                <a:rPr b="1" lang="en-US" sz="4800" spc="-1" strike="noStrike" baseline="30000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2</a:t>
              </a:r>
              <a:r>
                <a:rPr b="1" lang="en-US" sz="4800" spc="-1" strike="noStrike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 Α., Χατζηαντωνίου-Μαρούλη</a:t>
              </a:r>
              <a:r>
                <a:rPr b="1" lang="en-US" sz="4800" spc="-1" strike="noStrike" baseline="30000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2</a:t>
              </a:r>
              <a:r>
                <a:rPr b="1" lang="en-US" sz="4800" spc="-1" strike="noStrike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 </a:t>
              </a:r>
              <a:r>
                <a:rPr b="1" lang="en-US" sz="5400" spc="-1" strike="noStrike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Κ., </a:t>
              </a:r>
              <a:endParaRPr b="0" lang="en-US" sz="5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tsialmp@yahoo.gr</a:t>
              </a:r>
              <a:r>
                <a:rPr b="0" lang="en-US" sz="3600" spc="-1" strike="noStrike" baseline="30000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1</a:t>
              </a:r>
              <a:r>
                <a:rPr b="0" lang="el-GR" sz="3600" spc="-1" strike="noStrike" baseline="30000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 </a:t>
              </a:r>
              <a:r>
                <a:rPr b="0" lang="en-US" sz="3600" spc="-1" strike="noStrike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,  </a:t>
              </a: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Arial Narrow Bold Italic"/>
                  <a:ea typeface="Arial Narrow Bold Italic"/>
                </a:rPr>
                <a:t>apm@auth.gr</a:t>
              </a:r>
              <a:r>
                <a:rPr b="0" lang="en-US" sz="3600" spc="-1" strike="noStrike" u="sng" baseline="29000">
                  <a:solidFill>
                    <a:srgbClr val="009999"/>
                  </a:solidFill>
                  <a:uFillTx/>
                  <a:latin typeface="Arial Narrow Bold Italic"/>
                  <a:ea typeface="Arial Narrow Bold Italic"/>
                </a:rPr>
                <a:t>2</a:t>
              </a:r>
              <a:r>
                <a:rPr b="0" lang="en-US" sz="3600" spc="-1" strike="noStrike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, conm@auth.gr</a:t>
              </a:r>
              <a:r>
                <a:rPr b="0" lang="en-US" sz="3600" spc="-1" strike="noStrike" baseline="29000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2</a:t>
              </a:r>
              <a:r>
                <a:rPr b="0" lang="el-GR" sz="3600" spc="-1" strike="noStrike" baseline="29000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 </a:t>
              </a:r>
              <a:r>
                <a:rPr b="0" lang="en-US" sz="3600" spc="-1" strike="noStrike">
                  <a:solidFill>
                    <a:srgbClr val="0b5394"/>
                  </a:solidFill>
                  <a:latin typeface="Arial Narrow Bold Italic"/>
                  <a:ea typeface="Arial Narrow Bold Italic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pic>
        <p:nvPicPr>
          <p:cNvPr id="62" name="Picture 26" descr=""/>
          <p:cNvPicPr/>
          <p:nvPr/>
        </p:nvPicPr>
        <p:blipFill>
          <a:blip r:embed="rId3"/>
          <a:stretch/>
        </p:blipFill>
        <p:spPr>
          <a:xfrm>
            <a:off x="392040" y="11520360"/>
            <a:ext cx="4467240" cy="28083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29"/>
          <p:cNvGrpSpPr/>
          <p:nvPr/>
        </p:nvGrpSpPr>
        <p:grpSpPr>
          <a:xfrm>
            <a:off x="749160" y="9782280"/>
            <a:ext cx="28854360" cy="1092240"/>
            <a:chOff x="749160" y="9782280"/>
            <a:chExt cx="28854360" cy="1092240"/>
          </a:xfrm>
        </p:grpSpPr>
        <p:sp>
          <p:nvSpPr>
            <p:cNvPr id="64" name="AutoShape 27"/>
            <p:cNvSpPr/>
            <p:nvPr/>
          </p:nvSpPr>
          <p:spPr>
            <a:xfrm>
              <a:off x="749160" y="9782280"/>
              <a:ext cx="28854360" cy="1076400"/>
            </a:xfrm>
            <a:prstGeom prst="roundRect">
              <a:avLst>
                <a:gd name="adj" fmla="val 16718"/>
              </a:avLst>
            </a:prstGeom>
            <a:solidFill>
              <a:srgbClr val="eee6e8"/>
            </a:solidFill>
            <a:ln w="25560">
              <a:solidFill>
                <a:srgbClr val="eee6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749160" y="9925200"/>
              <a:ext cx="2873700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c00000"/>
                  </a:solidFill>
                  <a:latin typeface="Arial Narrow"/>
                  <a:ea typeface="Arial Narrow"/>
                </a:rPr>
                <a:t> </a:t>
              </a:r>
              <a:r>
                <a:rPr b="0" lang="en-US" sz="6000" spc="-1" strike="noStrike">
                  <a:solidFill>
                    <a:srgbClr val="c00000"/>
                  </a:solidFill>
                  <a:latin typeface="Arial Narrow"/>
                  <a:ea typeface="Arial Narrow"/>
                </a:rPr>
                <a:t>ΚΛΙΜΑΤΙΚΗ ΑΛΛΑΓΗ  ΚΑΙ  ΦΑΙΝΟΜΕΝΟ  ΤΟΥ ΘΕΡΜΟΚΗΠΙΟΥ </a:t>
              </a:r>
              <a:endParaRPr b="0" lang="en-US" sz="6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" name="Group 32"/>
          <p:cNvGrpSpPr/>
          <p:nvPr/>
        </p:nvGrpSpPr>
        <p:grpSpPr>
          <a:xfrm>
            <a:off x="750960" y="20539080"/>
            <a:ext cx="28785960" cy="1079640"/>
            <a:chOff x="750960" y="20539080"/>
            <a:chExt cx="28785960" cy="1079640"/>
          </a:xfrm>
        </p:grpSpPr>
        <p:sp>
          <p:nvSpPr>
            <p:cNvPr id="67" name="AutoShape 30"/>
            <p:cNvSpPr/>
            <p:nvPr/>
          </p:nvSpPr>
          <p:spPr>
            <a:xfrm>
              <a:off x="750960" y="20539080"/>
              <a:ext cx="28785960" cy="1079640"/>
            </a:xfrm>
            <a:prstGeom prst="roundRect">
              <a:avLst>
                <a:gd name="adj" fmla="val 16671"/>
              </a:avLst>
            </a:prstGeom>
            <a:solidFill>
              <a:srgbClr val="eee6e8"/>
            </a:solidFill>
            <a:ln w="25560">
              <a:solidFill>
                <a:srgbClr val="eee6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8" name="Rectangle 31"/>
            <p:cNvSpPr/>
            <p:nvPr/>
          </p:nvSpPr>
          <p:spPr>
            <a:xfrm>
              <a:off x="819360" y="20577240"/>
              <a:ext cx="2867472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 </a:t>
              </a:r>
              <a:r>
                <a:rPr b="0" lang="en-US" sz="6000" spc="-1" strike="noStrike">
                  <a:solidFill>
                    <a:srgbClr val="002060"/>
                  </a:solidFill>
                  <a:latin typeface="Calibri"/>
                  <a:ea typeface="Calibri"/>
                </a:rPr>
                <a:t>ΚΛΙΜΑΤΙΚΗ ΑΛΛΑΓΗ ΚΑΙ  ΤΗΞΗ ΤΩΝ ΠΑΓΩΝ</a:t>
              </a:r>
              <a:endParaRPr b="0" lang="en-US" sz="6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" name="Group 35"/>
          <p:cNvGrpSpPr/>
          <p:nvPr/>
        </p:nvGrpSpPr>
        <p:grpSpPr>
          <a:xfrm>
            <a:off x="750960" y="27146160"/>
            <a:ext cx="28925640" cy="1079640"/>
            <a:chOff x="750960" y="27146160"/>
            <a:chExt cx="28925640" cy="1079640"/>
          </a:xfrm>
        </p:grpSpPr>
        <p:sp>
          <p:nvSpPr>
            <p:cNvPr id="70" name="AutoShape 33"/>
            <p:cNvSpPr/>
            <p:nvPr/>
          </p:nvSpPr>
          <p:spPr>
            <a:xfrm>
              <a:off x="750960" y="27146160"/>
              <a:ext cx="28925640" cy="1079640"/>
            </a:xfrm>
            <a:prstGeom prst="roundRect">
              <a:avLst>
                <a:gd name="adj" fmla="val 16671"/>
              </a:avLst>
            </a:prstGeom>
            <a:solidFill>
              <a:srgbClr val="eee6e8"/>
            </a:solidFill>
            <a:ln w="25560">
              <a:solidFill>
                <a:srgbClr val="eee6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" name="Rectangle 34"/>
            <p:cNvSpPr/>
            <p:nvPr/>
          </p:nvSpPr>
          <p:spPr>
            <a:xfrm>
              <a:off x="820440" y="27184320"/>
              <a:ext cx="2881116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29541b"/>
                  </a:solidFill>
                  <a:latin typeface="Calibri"/>
                  <a:ea typeface="Calibri"/>
                </a:rPr>
                <a:t> </a:t>
              </a:r>
              <a:r>
                <a:rPr b="0" lang="en-US" sz="6000" spc="-1" strike="noStrike">
                  <a:solidFill>
                    <a:srgbClr val="29541b"/>
                  </a:solidFill>
                  <a:latin typeface="Calibri"/>
                  <a:ea typeface="Calibri"/>
                </a:rPr>
                <a:t>ΚΛΙΜΑΤΙΚΗ ΑΛΛΑΓΗ ΚΑΙ ΔΑΣΗ </a:t>
              </a:r>
              <a:endParaRPr b="0" lang="en-US" sz="6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2" name="Group 38"/>
          <p:cNvGrpSpPr/>
          <p:nvPr/>
        </p:nvGrpSpPr>
        <p:grpSpPr>
          <a:xfrm>
            <a:off x="787320" y="34923240"/>
            <a:ext cx="28876680" cy="1079640"/>
            <a:chOff x="787320" y="34923240"/>
            <a:chExt cx="28876680" cy="1079640"/>
          </a:xfrm>
        </p:grpSpPr>
        <p:sp>
          <p:nvSpPr>
            <p:cNvPr id="73" name="AutoShape 36"/>
            <p:cNvSpPr/>
            <p:nvPr/>
          </p:nvSpPr>
          <p:spPr>
            <a:xfrm>
              <a:off x="787320" y="34923240"/>
              <a:ext cx="28876680" cy="1079640"/>
            </a:xfrm>
            <a:prstGeom prst="roundRect">
              <a:avLst>
                <a:gd name="adj" fmla="val 16671"/>
              </a:avLst>
            </a:prstGeom>
            <a:solidFill>
              <a:srgbClr val="eee6e8"/>
            </a:solidFill>
            <a:ln w="25560">
              <a:solidFill>
                <a:srgbClr val="eee6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4" name="Rectangle 37"/>
            <p:cNvSpPr/>
            <p:nvPr/>
          </p:nvSpPr>
          <p:spPr>
            <a:xfrm>
              <a:off x="857160" y="34923240"/>
              <a:ext cx="2875932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776a49"/>
                  </a:solidFill>
                  <a:latin typeface="Calibri"/>
                  <a:ea typeface="Calibri"/>
                </a:rPr>
                <a:t> </a:t>
              </a:r>
              <a:r>
                <a:rPr b="0" lang="en-US" sz="6000" spc="-1" strike="noStrike">
                  <a:solidFill>
                    <a:srgbClr val="776a49"/>
                  </a:solidFill>
                  <a:latin typeface="Calibri"/>
                  <a:ea typeface="Calibri"/>
                </a:rPr>
                <a:t>ΚΛΙΜΑΤΙΚΗ ΑΛΛΑΓΗ ΚΑΙ   ΕΡΗΜΟΠΟΙΗΣΗ  </a:t>
              </a:r>
              <a:endParaRPr b="0" lang="en-US" sz="6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75" name="Rectangle 39"/>
          <p:cNvSpPr/>
          <p:nvPr/>
        </p:nvSpPr>
        <p:spPr>
          <a:xfrm>
            <a:off x="861840" y="5616720"/>
            <a:ext cx="1436400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ΤΟ ΚΛΙΜΑ ΤΗΣ ΓΗΣ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Το κλίμα της γης διαμορφώνεται από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πολλούς φυσικούς  παράγοντες</a:t>
            </a:r>
            <a:r>
              <a:rPr b="0" lang="el-GR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οι οποίοι δρούσαν σε όλη τη διάρκεια της ιστορίας της γης.  Οι παράγοντες αυτοί έχουν να κάνουν με τη 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θέση της γης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σε σχέση με τον Ήλιο, την 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ηλιακή ακτινοβολία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, την 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κλίση του άξονα της</a:t>
            </a:r>
            <a:r>
              <a:rPr b="0" lang="el-GR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αλλά και με 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αλλαγές στο σύστημα της υδρόσφαιρας (πχ. ωκεανοί),</a:t>
            </a:r>
            <a:r>
              <a:rPr b="0" lang="el-GR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της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 γεώσφαιρας (πχ. ηφαίστεια), </a:t>
            </a:r>
            <a:r>
              <a:rPr b="0" lang="el-GR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της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ατμόσφαιρας</a:t>
            </a:r>
            <a:r>
              <a:rPr b="0" lang="el-GR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πχ. όζον)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και </a:t>
            </a:r>
            <a:r>
              <a:rPr b="0" lang="el-GR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της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βιόσφαιρας (πχ. δάση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, καθώς επίσης και του φυσικού 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φαινομένου του θερμοκηπίου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. Ο άνθρωπος συνέβαλε στην επιδείνωση του φαινομένου του θερμοκηπίου</a:t>
            </a:r>
            <a:r>
              <a:rPr b="0" lang="el-GR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άρα και  στην αύξηση της μέσης θερμοκρασίας της γης</a:t>
            </a:r>
            <a:r>
              <a:rPr b="0" lang="el-GR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που είναι ένδειξη της  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κλιματικής αλλαγ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Rectangle 41"/>
          <p:cNvSpPr/>
          <p:nvPr/>
        </p:nvSpPr>
        <p:spPr>
          <a:xfrm>
            <a:off x="1803240" y="41981400"/>
            <a:ext cx="1429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15584400" y="5256360"/>
            <a:ext cx="140083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Η ΠΡΑΣΙΝΗ ΧΗΜΕΙΑ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Η 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Πράσινη Χημεία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έρχεται να δώσει λύσεις σε ζητήματα που απασχολούν τον σημερινό άνθρωπο</a:t>
            </a:r>
            <a:r>
              <a:rPr b="0" lang="el-GR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, που είναι ο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κύριο</a:t>
            </a:r>
            <a:r>
              <a:rPr b="0" lang="el-GR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ς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υπεύθυνο</a:t>
            </a:r>
            <a:r>
              <a:rPr b="0" lang="el-GR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ς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για την κλιματική αλλαγή και να προτείνει τρόπους αποφυγής της</a:t>
            </a:r>
            <a:r>
              <a:rPr b="0" lang="el-GR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καθώς και λύσεις στα προβλήματα</a:t>
            </a:r>
            <a:r>
              <a:rPr b="0" lang="el-GR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που δημιουργήθηκαν. Αυτό μπορεί να συμβεί είτε με την 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πρόληψη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, που είναι βασική αρχή της Πράσινης Χημείας,  είτε  με την αντικατάσταση χημικών ουσιών με ηπιότερες και 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ασφαλέστερες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, είτε με τη χρήση  </a:t>
            </a:r>
            <a:r>
              <a:rPr b="0" lang="en-US" sz="28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ανανεώσιμων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πηγών ενέργειας.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44" descr=""/>
          <p:cNvPicPr/>
          <p:nvPr/>
        </p:nvPicPr>
        <p:blipFill>
          <a:blip r:embed="rId4"/>
          <a:stretch/>
        </p:blipFill>
        <p:spPr>
          <a:xfrm>
            <a:off x="392040" y="3168720"/>
            <a:ext cx="2316240" cy="252072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47"/>
          <p:cNvGrpSpPr/>
          <p:nvPr/>
        </p:nvGrpSpPr>
        <p:grpSpPr>
          <a:xfrm>
            <a:off x="4975200" y="11233080"/>
            <a:ext cx="13233240" cy="1244520"/>
            <a:chOff x="4975200" y="11233080"/>
            <a:chExt cx="13233240" cy="1244520"/>
          </a:xfrm>
        </p:grpSpPr>
        <p:sp>
          <p:nvSpPr>
            <p:cNvPr id="80" name="Rectangle 45"/>
            <p:cNvSpPr/>
            <p:nvPr/>
          </p:nvSpPr>
          <p:spPr>
            <a:xfrm>
              <a:off x="4975200" y="11233080"/>
              <a:ext cx="13218840" cy="1244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25560" dir="5400000" blurRad="0" rotWithShape="0">
                <a:srgbClr val="00000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1" name="Rectangle 46"/>
            <p:cNvSpPr/>
            <p:nvPr/>
          </p:nvSpPr>
          <p:spPr>
            <a:xfrm>
              <a:off x="4975200" y="11233080"/>
              <a:ext cx="1323324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Bold"/>
                  <a:ea typeface="Calibri Bold"/>
                </a:rPr>
                <a:t>Το φαινόμενο του θερμοκηπίου είναι μια φυσική διαδικασία.  Χάρη σ</a:t>
              </a:r>
              <a:r>
                <a:rPr b="0" lang="ja-JP" sz="2400" spc="-1" strike="noStrike">
                  <a:solidFill>
                    <a:srgbClr val="000000"/>
                  </a:solidFill>
                  <a:latin typeface="Calibri Bold"/>
                  <a:ea typeface="Calibri Bold"/>
                </a:rPr>
                <a:t>’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 Bold"/>
                  <a:ea typeface="Calibri Bold"/>
                </a:rPr>
                <a:t>αυτό  η μέση θερμοκρασία της γης  διατηρείται στο επίπεδο των 15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 Bold"/>
                  <a:ea typeface="Calibri Bold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 Bold"/>
                  <a:ea typeface="Calibri Bold"/>
                </a:rPr>
                <a:t>C  κ</a:t>
              </a:r>
              <a:r>
                <a:rPr b="0" lang="el-GR" sz="2400" spc="-1" strike="noStrike">
                  <a:solidFill>
                    <a:srgbClr val="000000"/>
                  </a:solidFill>
                  <a:latin typeface="Calibri Bold"/>
                  <a:ea typeface="Calibri Bold"/>
                </a:rPr>
                <a:t>αι γι’ αυτό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 Bold"/>
                  <a:ea typeface="Calibri Bold"/>
                </a:rPr>
                <a:t> υπάρχει  η ζωή .  Η ανθρώπινη δραστηριότητα αύξησε τα θερμοκηπικά αέρια επικίνδυνα, με αποτέλεσμα την αύξηση της μέσης θερμοκρασίας  της γης.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82" name="Rectangle 48"/>
          <p:cNvSpPr/>
          <p:nvPr/>
        </p:nvSpPr>
        <p:spPr>
          <a:xfrm>
            <a:off x="836640" y="31756320"/>
            <a:ext cx="17436960" cy="2781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2556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1001880" y="31756320"/>
            <a:ext cx="17081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Ο ρυθμός με τον οποίο απομακρύνονται τα αέρια του θερμοκηπίου από την ατμόσφαιρα (πχ απομάκρυνση του ατμοσφαιρικού διοξειδίου του άνθρακα από τα φυτά, μέσω της φωτοσύνθεσης) επηρεάζει την ένταση του φαινομένου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Η  καταστροφή των δασών ενισχύει το φαινόμενο του θερμοκηπίου, καθώς οι ποσότητες του διοξειδίου του άνθρακα</a:t>
            </a:r>
            <a:r>
              <a:rPr b="0" lang="el-GR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  που δεσμεύονται για φωτοσύνθεση μειώνονται. Επίσης με την καύση τους απελευθερώνονται τεράστιες ποσότητες  διοξειδίου του άνθρακα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879480" y="15121080"/>
            <a:ext cx="3833640" cy="5032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2556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 Bold"/>
                <a:ea typeface="Calibri Bold"/>
              </a:rPr>
              <a:t>Τα θερμοκηπικά αέρια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51"/>
          <p:cNvSpPr/>
          <p:nvPr/>
        </p:nvSpPr>
        <p:spPr>
          <a:xfrm>
            <a:off x="941400" y="16129080"/>
            <a:ext cx="41990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Διοξείδιο του  άνθρακα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Μεθάνιο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Υποξείδιο του αζώτου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Υδροφθοράνθρακες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Υπερφθοράνθρακες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Εξαφθοριούχο θείο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6" name="Picture 52" descr=""/>
          <p:cNvPicPr/>
          <p:nvPr/>
        </p:nvPicPr>
        <p:blipFill>
          <a:blip r:embed="rId5"/>
          <a:stretch/>
        </p:blipFill>
        <p:spPr>
          <a:xfrm>
            <a:off x="8690040" y="15579720"/>
            <a:ext cx="5511600" cy="2019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3"/>
          <p:cNvSpPr/>
          <p:nvPr/>
        </p:nvSpPr>
        <p:spPr>
          <a:xfrm>
            <a:off x="8750160" y="15675120"/>
            <a:ext cx="5407200" cy="1849320"/>
          </a:xfrm>
          <a:prstGeom prst="rect">
            <a:avLst/>
          </a:prstGeom>
          <a:solidFill>
            <a:srgbClr val="d9d9d9"/>
          </a:solidFill>
          <a:ln w="38160">
            <a:solidFill>
              <a:srgbClr val="c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Ανθρωπογενείς παράγοντες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που παράγουν θερμοκηπικά αέρια   και επιδεινώνουν το φαινόμενο του θερμοκηπίου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8" name="Group 56"/>
          <p:cNvGrpSpPr/>
          <p:nvPr/>
        </p:nvGrpSpPr>
        <p:grpSpPr>
          <a:xfrm>
            <a:off x="11739600" y="12822120"/>
            <a:ext cx="2666880" cy="2403360"/>
            <a:chOff x="11739600" y="12822120"/>
            <a:chExt cx="2666880" cy="2403360"/>
          </a:xfrm>
        </p:grpSpPr>
        <p:pic>
          <p:nvPicPr>
            <p:cNvPr id="89" name="Picture 54" descr=""/>
            <p:cNvPicPr/>
            <p:nvPr/>
          </p:nvPicPr>
          <p:blipFill>
            <a:blip r:embed="rId6"/>
            <a:stretch/>
          </p:blipFill>
          <p:spPr>
            <a:xfrm>
              <a:off x="11739600" y="12822120"/>
              <a:ext cx="266688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55"/>
            <p:cNvSpPr/>
            <p:nvPr/>
          </p:nvSpPr>
          <p:spPr>
            <a:xfrm>
              <a:off x="11806200" y="14539680"/>
              <a:ext cx="2525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Τα εργοστάσια παραγωγής ενέργειας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1" name="Group 59"/>
          <p:cNvGrpSpPr/>
          <p:nvPr/>
        </p:nvGrpSpPr>
        <p:grpSpPr>
          <a:xfrm>
            <a:off x="5457960" y="12827160"/>
            <a:ext cx="2666880" cy="2400120"/>
            <a:chOff x="5457960" y="12827160"/>
            <a:chExt cx="2666880" cy="2400120"/>
          </a:xfrm>
        </p:grpSpPr>
        <p:pic>
          <p:nvPicPr>
            <p:cNvPr id="92" name="Picture 57" descr=""/>
            <p:cNvPicPr/>
            <p:nvPr/>
          </p:nvPicPr>
          <p:blipFill>
            <a:blip r:embed="rId7"/>
            <a:stretch/>
          </p:blipFill>
          <p:spPr>
            <a:xfrm>
              <a:off x="5457960" y="12827160"/>
              <a:ext cx="2666880" cy="24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58"/>
            <p:cNvSpPr/>
            <p:nvPr/>
          </p:nvSpPr>
          <p:spPr>
            <a:xfrm>
              <a:off x="6105600" y="14625360"/>
              <a:ext cx="1335240" cy="38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Τα οχήματα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" name="Group 62"/>
          <p:cNvGrpSpPr/>
          <p:nvPr/>
        </p:nvGrpSpPr>
        <p:grpSpPr>
          <a:xfrm>
            <a:off x="5445000" y="17989560"/>
            <a:ext cx="2666880" cy="2400120"/>
            <a:chOff x="5445000" y="17989560"/>
            <a:chExt cx="2666880" cy="2400120"/>
          </a:xfrm>
        </p:grpSpPr>
        <p:pic>
          <p:nvPicPr>
            <p:cNvPr id="95" name="Picture 60" descr=""/>
            <p:cNvPicPr/>
            <p:nvPr/>
          </p:nvPicPr>
          <p:blipFill>
            <a:blip r:embed="rId8"/>
            <a:stretch/>
          </p:blipFill>
          <p:spPr>
            <a:xfrm>
              <a:off x="5445000" y="17989560"/>
              <a:ext cx="2666880" cy="24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61"/>
            <p:cNvSpPr/>
            <p:nvPr/>
          </p:nvSpPr>
          <p:spPr>
            <a:xfrm>
              <a:off x="6006960" y="19879920"/>
              <a:ext cx="150948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Οι χωματερές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7" name="Group 65"/>
          <p:cNvGrpSpPr/>
          <p:nvPr/>
        </p:nvGrpSpPr>
        <p:grpSpPr>
          <a:xfrm>
            <a:off x="8588520" y="17997480"/>
            <a:ext cx="2666880" cy="2400480"/>
            <a:chOff x="8588520" y="17997480"/>
            <a:chExt cx="2666880" cy="2400480"/>
          </a:xfrm>
        </p:grpSpPr>
        <p:pic>
          <p:nvPicPr>
            <p:cNvPr id="98" name="Picture 63" descr=""/>
            <p:cNvPicPr/>
            <p:nvPr/>
          </p:nvPicPr>
          <p:blipFill>
            <a:blip r:embed="rId9"/>
            <a:stretch/>
          </p:blipFill>
          <p:spPr>
            <a:xfrm>
              <a:off x="8588520" y="17997480"/>
              <a:ext cx="266688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64"/>
            <p:cNvSpPr/>
            <p:nvPr/>
          </p:nvSpPr>
          <p:spPr>
            <a:xfrm>
              <a:off x="9064080" y="19835640"/>
              <a:ext cx="163764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Η κτηνοτροφία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0" name="Group 68"/>
          <p:cNvGrpSpPr/>
          <p:nvPr/>
        </p:nvGrpSpPr>
        <p:grpSpPr>
          <a:xfrm>
            <a:off x="11727000" y="17997480"/>
            <a:ext cx="2666880" cy="2400480"/>
            <a:chOff x="11727000" y="17997480"/>
            <a:chExt cx="2666880" cy="2400480"/>
          </a:xfrm>
        </p:grpSpPr>
        <p:pic>
          <p:nvPicPr>
            <p:cNvPr id="101" name="Picture 66" descr=""/>
            <p:cNvPicPr/>
            <p:nvPr/>
          </p:nvPicPr>
          <p:blipFill>
            <a:blip r:embed="rId10"/>
            <a:stretch/>
          </p:blipFill>
          <p:spPr>
            <a:xfrm>
              <a:off x="11727000" y="17997480"/>
              <a:ext cx="266688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67"/>
            <p:cNvSpPr/>
            <p:nvPr/>
          </p:nvSpPr>
          <p:spPr>
            <a:xfrm>
              <a:off x="11828520" y="19653120"/>
              <a:ext cx="2476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Η καταστροφή των δασών από πυρκαγιές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3" name="Group 71"/>
          <p:cNvGrpSpPr/>
          <p:nvPr/>
        </p:nvGrpSpPr>
        <p:grpSpPr>
          <a:xfrm>
            <a:off x="14873400" y="17997480"/>
            <a:ext cx="2666880" cy="2400480"/>
            <a:chOff x="14873400" y="17997480"/>
            <a:chExt cx="2666880" cy="2400480"/>
          </a:xfrm>
        </p:grpSpPr>
        <p:pic>
          <p:nvPicPr>
            <p:cNvPr id="104" name="Picture 69" descr=""/>
            <p:cNvPicPr/>
            <p:nvPr/>
          </p:nvPicPr>
          <p:blipFill>
            <a:blip r:embed="rId11"/>
            <a:stretch/>
          </p:blipFill>
          <p:spPr>
            <a:xfrm>
              <a:off x="14873400" y="17997480"/>
              <a:ext cx="266688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70"/>
            <p:cNvSpPr/>
            <p:nvPr/>
          </p:nvSpPr>
          <p:spPr>
            <a:xfrm>
              <a:off x="14981400" y="19691280"/>
              <a:ext cx="2502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Η καταστροφή των δασών για ξυλεία 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6" name="Group 74"/>
          <p:cNvGrpSpPr/>
          <p:nvPr/>
        </p:nvGrpSpPr>
        <p:grpSpPr>
          <a:xfrm>
            <a:off x="14873400" y="12827160"/>
            <a:ext cx="2666880" cy="2407680"/>
            <a:chOff x="14873400" y="12827160"/>
            <a:chExt cx="2666880" cy="2407680"/>
          </a:xfrm>
        </p:grpSpPr>
        <p:pic>
          <p:nvPicPr>
            <p:cNvPr id="107" name="Picture 72" descr=""/>
            <p:cNvPicPr/>
            <p:nvPr/>
          </p:nvPicPr>
          <p:blipFill>
            <a:blip r:embed="rId12"/>
            <a:stretch/>
          </p:blipFill>
          <p:spPr>
            <a:xfrm>
              <a:off x="14873400" y="12827160"/>
              <a:ext cx="2666880" cy="24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73"/>
            <p:cNvSpPr/>
            <p:nvPr/>
          </p:nvSpPr>
          <p:spPr>
            <a:xfrm>
              <a:off x="14960880" y="14549400"/>
              <a:ext cx="25146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Η αύξηση του πληθυσμού της γης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09" name="Group 77"/>
          <p:cNvGrpSpPr/>
          <p:nvPr/>
        </p:nvGrpSpPr>
        <p:grpSpPr>
          <a:xfrm>
            <a:off x="8596440" y="12822120"/>
            <a:ext cx="2666880" cy="2400480"/>
            <a:chOff x="8596440" y="12822120"/>
            <a:chExt cx="2666880" cy="2400480"/>
          </a:xfrm>
        </p:grpSpPr>
        <p:pic>
          <p:nvPicPr>
            <p:cNvPr id="110" name="Picture 75" descr=""/>
            <p:cNvPicPr/>
            <p:nvPr/>
          </p:nvPicPr>
          <p:blipFill>
            <a:blip r:embed="rId13"/>
            <a:stretch/>
          </p:blipFill>
          <p:spPr>
            <a:xfrm>
              <a:off x="8596440" y="12822120"/>
              <a:ext cx="2666880" cy="24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76"/>
            <p:cNvSpPr/>
            <p:nvPr/>
          </p:nvSpPr>
          <p:spPr>
            <a:xfrm>
              <a:off x="8690040" y="14523840"/>
              <a:ext cx="2502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Η πετροχημική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βιομηχανία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12" name="Group 97"/>
          <p:cNvGrpSpPr/>
          <p:nvPr/>
        </p:nvGrpSpPr>
        <p:grpSpPr>
          <a:xfrm>
            <a:off x="19113480" y="11809440"/>
            <a:ext cx="10531440" cy="8440560"/>
            <a:chOff x="19113480" y="11809440"/>
            <a:chExt cx="10531440" cy="8440560"/>
          </a:xfrm>
        </p:grpSpPr>
        <p:grpSp>
          <p:nvGrpSpPr>
            <p:cNvPr id="113" name="Group 80"/>
            <p:cNvGrpSpPr/>
            <p:nvPr/>
          </p:nvGrpSpPr>
          <p:grpSpPr>
            <a:xfrm>
              <a:off x="21056760" y="11809440"/>
              <a:ext cx="6262200" cy="630360"/>
              <a:chOff x="21056760" y="11809440"/>
              <a:chExt cx="6262200" cy="630360"/>
            </a:xfrm>
          </p:grpSpPr>
          <p:sp>
            <p:nvSpPr>
              <p:cNvPr id="114" name="Rectangle 78"/>
              <p:cNvSpPr/>
              <p:nvPr/>
            </p:nvSpPr>
            <p:spPr>
              <a:xfrm>
                <a:off x="21056760" y="11809440"/>
                <a:ext cx="6262200" cy="630360"/>
              </a:xfrm>
              <a:prstGeom prst="rect">
                <a:avLst/>
              </a:prstGeom>
              <a:gradFill rotWithShape="0">
                <a:gsLst>
                  <a:gs pos="0">
                    <a:srgbClr val="6fd64d"/>
                  </a:gs>
                  <a:gs pos="100000">
                    <a:srgbClr val="55a03c"/>
                  </a:gs>
                </a:gsLst>
                <a:lin ang="5400000"/>
              </a:gradFill>
              <a:ln w="0">
                <a:noFill/>
              </a:ln>
              <a:effectLst>
                <a:outerShdw dist="2556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15" name="Rectangle 79"/>
              <p:cNvSpPr/>
              <p:nvPr/>
            </p:nvSpPr>
            <p:spPr>
              <a:xfrm>
                <a:off x="21056760" y="11809440"/>
                <a:ext cx="626076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 u="sng">
                    <a:solidFill>
                      <a:srgbClr val="ffffff"/>
                    </a:solidFill>
                    <a:uFillTx/>
                    <a:latin typeface="Calibri Bold"/>
                    <a:ea typeface="Calibri Bold"/>
                  </a:rPr>
                  <a:t> </a:t>
                </a:r>
                <a:r>
                  <a:rPr b="0" lang="en-US" sz="3600" spc="-1" strike="noStrike" u="sng">
                    <a:solidFill>
                      <a:srgbClr val="ffffff"/>
                    </a:solidFill>
                    <a:uFillTx/>
                    <a:latin typeface="Calibri Bold"/>
                    <a:ea typeface="Calibri Bold"/>
                  </a:rPr>
                  <a:t>Η ΠΡΑΣΙΝΗ ΧΗΜΕΙΑ ΠΡΟΤΕΙΝΕΙ </a:t>
                </a:r>
                <a:endParaRPr b="0" lang="en-US" sz="36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16" name="Group 83"/>
            <p:cNvGrpSpPr/>
            <p:nvPr/>
          </p:nvGrpSpPr>
          <p:grpSpPr>
            <a:xfrm>
              <a:off x="25809480" y="15194160"/>
              <a:ext cx="3835440" cy="576000"/>
              <a:chOff x="25809480" y="15194160"/>
              <a:chExt cx="3835440" cy="576000"/>
            </a:xfrm>
          </p:grpSpPr>
          <p:sp>
            <p:nvSpPr>
              <p:cNvPr id="117" name="Rectangle 81"/>
              <p:cNvSpPr/>
              <p:nvPr/>
            </p:nvSpPr>
            <p:spPr>
              <a:xfrm>
                <a:off x="25809480" y="15194160"/>
                <a:ext cx="3816360" cy="576000"/>
              </a:xfrm>
              <a:prstGeom prst="rect">
                <a:avLst/>
              </a:prstGeom>
              <a:gradFill rotWithShape="0">
                <a:gsLst>
                  <a:gs pos="0">
                    <a:srgbClr val="6fd64d"/>
                  </a:gs>
                  <a:gs pos="100000">
                    <a:srgbClr val="55a03c"/>
                  </a:gs>
                </a:gsLst>
                <a:lin ang="5400000"/>
              </a:gradFill>
              <a:ln w="9360">
                <a:solidFill>
                  <a:srgbClr val="77c75d"/>
                </a:solidFill>
                <a:round/>
              </a:ln>
              <a:effectLst>
                <a:outerShdw dist="2556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18" name="Rectangle 82"/>
              <p:cNvSpPr/>
              <p:nvPr/>
            </p:nvSpPr>
            <p:spPr>
              <a:xfrm>
                <a:off x="25809480" y="15194160"/>
                <a:ext cx="3835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 Bold"/>
                    <a:ea typeface="Calibri Bold"/>
                  </a:rPr>
                  <a:t>Εναλλακτικά καύσιμα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19" name="Group 86"/>
            <p:cNvGrpSpPr/>
            <p:nvPr/>
          </p:nvGrpSpPr>
          <p:grpSpPr>
            <a:xfrm>
              <a:off x="19113480" y="15121080"/>
              <a:ext cx="4762440" cy="546120"/>
              <a:chOff x="19113480" y="15121080"/>
              <a:chExt cx="4762440" cy="546120"/>
            </a:xfrm>
          </p:grpSpPr>
          <p:sp>
            <p:nvSpPr>
              <p:cNvPr id="120" name="Rectangle 84"/>
              <p:cNvSpPr/>
              <p:nvPr/>
            </p:nvSpPr>
            <p:spPr>
              <a:xfrm>
                <a:off x="19113480" y="15121080"/>
                <a:ext cx="4762440" cy="546120"/>
              </a:xfrm>
              <a:prstGeom prst="rect">
                <a:avLst/>
              </a:prstGeom>
              <a:gradFill rotWithShape="0">
                <a:gsLst>
                  <a:gs pos="0">
                    <a:srgbClr val="6fd64d"/>
                  </a:gs>
                  <a:gs pos="100000">
                    <a:srgbClr val="55a03c"/>
                  </a:gs>
                </a:gsLst>
                <a:lin ang="5400000"/>
              </a:gradFill>
              <a:ln w="9360">
                <a:solidFill>
                  <a:srgbClr val="77c75d"/>
                </a:solidFill>
                <a:round/>
              </a:ln>
              <a:effectLst>
                <a:outerShdw dist="2556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21" name="Rectangle 85"/>
              <p:cNvSpPr/>
              <p:nvPr/>
            </p:nvSpPr>
            <p:spPr>
              <a:xfrm>
                <a:off x="19113480" y="15121080"/>
                <a:ext cx="4762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 Bold"/>
                    <a:ea typeface="Calibri Bold"/>
                  </a:rPr>
                  <a:t>Ανανεώσιμες πηγές ενέργειας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22" name="Group 89"/>
            <p:cNvGrpSpPr/>
            <p:nvPr/>
          </p:nvGrpSpPr>
          <p:grpSpPr>
            <a:xfrm>
              <a:off x="20983680" y="13536720"/>
              <a:ext cx="6438600" cy="990360"/>
              <a:chOff x="20983680" y="13536720"/>
              <a:chExt cx="6438600" cy="990360"/>
            </a:xfrm>
          </p:grpSpPr>
          <p:sp>
            <p:nvSpPr>
              <p:cNvPr id="123" name="Rectangle 87"/>
              <p:cNvSpPr/>
              <p:nvPr/>
            </p:nvSpPr>
            <p:spPr>
              <a:xfrm>
                <a:off x="20983680" y="13536720"/>
                <a:ext cx="6426000" cy="990360"/>
              </a:xfrm>
              <a:prstGeom prst="rect">
                <a:avLst/>
              </a:prstGeom>
              <a:gradFill rotWithShape="0">
                <a:gsLst>
                  <a:gs pos="0">
                    <a:srgbClr val="6fd64d"/>
                  </a:gs>
                  <a:gs pos="100000">
                    <a:srgbClr val="55a03c"/>
                  </a:gs>
                </a:gsLst>
                <a:lin ang="5400000"/>
              </a:gradFill>
              <a:ln w="9360">
                <a:solidFill>
                  <a:srgbClr val="77c75d"/>
                </a:solidFill>
                <a:round/>
              </a:ln>
              <a:effectLst>
                <a:outerShdw dist="2556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24" name="Rectangle 88"/>
              <p:cNvSpPr/>
              <p:nvPr/>
            </p:nvSpPr>
            <p:spPr>
              <a:xfrm>
                <a:off x="20983680" y="13536720"/>
                <a:ext cx="6438600" cy="9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Calibri Bold"/>
                    <a:ea typeface="Calibri Bold"/>
                  </a:rPr>
                  <a:t>Εξοικονόμηση και ορθολογική χρήση της ενέργειας</a:t>
                </a:r>
                <a:endParaRPr b="0" lang="en-US" sz="28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25" name="Rectangle 90"/>
            <p:cNvSpPr/>
            <p:nvPr/>
          </p:nvSpPr>
          <p:spPr>
            <a:xfrm>
              <a:off x="19263960" y="16129080"/>
              <a:ext cx="3675240" cy="30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Αιολική ενέργεια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Γεωθερμία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Ηλιακή ενέργεια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Υδατοπτώσεις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Βιομάζα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Ενέργεια κυμάτων και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θαλάσσιων ρευμάτων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26" name="Picture 91" descr=""/>
            <p:cNvPicPr/>
            <p:nvPr/>
          </p:nvPicPr>
          <p:blipFill>
            <a:blip r:embed="rId14"/>
            <a:stretch/>
          </p:blipFill>
          <p:spPr>
            <a:xfrm>
              <a:off x="23290200" y="16416360"/>
              <a:ext cx="20764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Freeform 92"/>
            <p:cNvSpPr/>
            <p:nvPr/>
          </p:nvSpPr>
          <p:spPr>
            <a:xfrm>
              <a:off x="23793480" y="12673080"/>
              <a:ext cx="504720" cy="79200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727"/>
                  </a:moveTo>
                  <a:lnTo>
                    <a:pt x="5400" y="14727"/>
                  </a:lnTo>
                  <a:lnTo>
                    <a:pt x="5400" y="0"/>
                  </a:lnTo>
                  <a:lnTo>
                    <a:pt x="16200" y="0"/>
                  </a:lnTo>
                  <a:lnTo>
                    <a:pt x="16200" y="14727"/>
                  </a:lnTo>
                  <a:lnTo>
                    <a:pt x="21600" y="14727"/>
                  </a:lnTo>
                  <a:lnTo>
                    <a:pt x="10800" y="21600"/>
                  </a:lnTo>
                  <a:lnTo>
                    <a:pt x="0" y="14727"/>
                  </a:lnTo>
                  <a:close/>
                  <a:moveTo>
                    <a:pt x="0" y="14727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a51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8" name="Freeform 93"/>
            <p:cNvSpPr/>
            <p:nvPr/>
          </p:nvSpPr>
          <p:spPr>
            <a:xfrm flipH="1" rot="16200000">
              <a:off x="18987840" y="13228560"/>
              <a:ext cx="2878200" cy="900000"/>
            </a:xfrm>
            <a:custGeom>
              <a:avLst/>
              <a:gdLst>
                <a:gd name="textAreaLeft" fmla="*/ -360 w 2878200"/>
                <a:gd name="textAreaRight" fmla="*/ 2878200 w 2878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1807"/>
                  </a:lnTo>
                  <a:cubicBezTo>
                    <a:pt x="0" y="6588"/>
                    <a:pt x="1322" y="2357"/>
                    <a:pt x="2953" y="2357"/>
                  </a:cubicBezTo>
                  <a:lnTo>
                    <a:pt x="19913" y="2357"/>
                  </a:lnTo>
                  <a:lnTo>
                    <a:pt x="19913" y="0"/>
                  </a:lnTo>
                  <a:lnTo>
                    <a:pt x="21600" y="5057"/>
                  </a:lnTo>
                  <a:lnTo>
                    <a:pt x="19913" y="10114"/>
                  </a:lnTo>
                  <a:lnTo>
                    <a:pt x="19913" y="7757"/>
                  </a:lnTo>
                  <a:lnTo>
                    <a:pt x="2953" y="7757"/>
                  </a:lnTo>
                  <a:cubicBezTo>
                    <a:pt x="2254" y="7757"/>
                    <a:pt x="1688" y="9570"/>
                    <a:pt x="1688" y="11807"/>
                  </a:cubicBezTo>
                  <a:lnTo>
                    <a:pt x="1688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a51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9" name="Freeform 94"/>
            <p:cNvSpPr/>
            <p:nvPr/>
          </p:nvSpPr>
          <p:spPr>
            <a:xfrm rot="5400000">
              <a:off x="26240040" y="13245120"/>
              <a:ext cx="3024000" cy="863640"/>
            </a:xfrm>
            <a:custGeom>
              <a:avLst/>
              <a:gdLst>
                <a:gd name="textAreaLeft" fmla="*/ 0 w 3024000"/>
                <a:gd name="textAreaRight" fmla="*/ 3024360 w 30240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50"/>
                  </a:lnTo>
                  <a:cubicBezTo>
                    <a:pt x="0" y="6931"/>
                    <a:pt x="1209" y="2700"/>
                    <a:pt x="2700" y="2700"/>
                  </a:cubicBezTo>
                  <a:lnTo>
                    <a:pt x="20057" y="2700"/>
                  </a:lnTo>
                  <a:lnTo>
                    <a:pt x="20057" y="0"/>
                  </a:lnTo>
                  <a:lnTo>
                    <a:pt x="21600" y="5400"/>
                  </a:lnTo>
                  <a:lnTo>
                    <a:pt x="20057" y="10800"/>
                  </a:lnTo>
                  <a:lnTo>
                    <a:pt x="20057" y="8100"/>
                  </a:lnTo>
                  <a:lnTo>
                    <a:pt x="2700" y="8100"/>
                  </a:lnTo>
                  <a:cubicBezTo>
                    <a:pt x="2061" y="8100"/>
                    <a:pt x="1543" y="9913"/>
                    <a:pt x="1543" y="12150"/>
                  </a:cubicBezTo>
                  <a:lnTo>
                    <a:pt x="1543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ffff00"/>
            </a:solidFill>
            <a:ln w="25560">
              <a:solidFill>
                <a:srgbClr val="0a519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0" name="Rectangle 95"/>
            <p:cNvSpPr/>
            <p:nvPr/>
          </p:nvSpPr>
          <p:spPr>
            <a:xfrm>
              <a:off x="26388000" y="16129080"/>
              <a:ext cx="24084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38160" bIns="3816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Υδρογόνο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Φυσικό αέριο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Προπάνιο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Βιοαέριο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Βιοκαύσιμα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31" name="Picture 96" descr=""/>
            <p:cNvPicPr/>
            <p:nvPr/>
          </p:nvPicPr>
          <p:blipFill>
            <a:blip r:embed="rId15"/>
            <a:stretch/>
          </p:blipFill>
          <p:spPr>
            <a:xfrm>
              <a:off x="26754120" y="18649800"/>
              <a:ext cx="194004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Group 100"/>
          <p:cNvGrpSpPr/>
          <p:nvPr/>
        </p:nvGrpSpPr>
        <p:grpSpPr>
          <a:xfrm>
            <a:off x="19184760" y="21963240"/>
            <a:ext cx="10553760" cy="934920"/>
            <a:chOff x="19184760" y="21963240"/>
            <a:chExt cx="10553760" cy="934920"/>
          </a:xfrm>
        </p:grpSpPr>
        <p:sp>
          <p:nvSpPr>
            <p:cNvPr id="133" name="Rectangle 98"/>
            <p:cNvSpPr/>
            <p:nvPr/>
          </p:nvSpPr>
          <p:spPr>
            <a:xfrm>
              <a:off x="19184760" y="21963240"/>
              <a:ext cx="10541160" cy="934920"/>
            </a:xfrm>
            <a:prstGeom prst="rect">
              <a:avLst/>
            </a:prstGeom>
            <a:gradFill rotWithShape="0">
              <a:gsLst>
                <a:gs pos="0">
                  <a:srgbClr val="6fd64d"/>
                </a:gs>
                <a:gs pos="100000">
                  <a:srgbClr val="55a03c"/>
                </a:gs>
              </a:gsLst>
              <a:lin ang="5400000"/>
            </a:gradFill>
            <a:ln w="0">
              <a:noFill/>
            </a:ln>
            <a:effectLst>
              <a:outerShdw dist="255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4" name="Rectangle 99"/>
            <p:cNvSpPr/>
            <p:nvPr/>
          </p:nvSpPr>
          <p:spPr>
            <a:xfrm>
              <a:off x="19184760" y="21963240"/>
              <a:ext cx="10553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ff"/>
                  </a:solidFill>
                  <a:uFillTx/>
                  <a:latin typeface="Calibri Bold"/>
                  <a:ea typeface="Calibri Bold"/>
                </a:rPr>
                <a:t>Η ΠΡΑΣΙΝΗ ΧΗΜΕΙΑ ΠΡΟΤΕΙΝΕΙ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5" name="Group 103"/>
          <p:cNvGrpSpPr/>
          <p:nvPr/>
        </p:nvGrpSpPr>
        <p:grpSpPr>
          <a:xfrm>
            <a:off x="19110240" y="36291960"/>
            <a:ext cx="10604520" cy="792000"/>
            <a:chOff x="19110240" y="36291960"/>
            <a:chExt cx="10604520" cy="792000"/>
          </a:xfrm>
        </p:grpSpPr>
        <p:sp>
          <p:nvSpPr>
            <p:cNvPr id="136" name="Rectangle 101"/>
            <p:cNvSpPr/>
            <p:nvPr/>
          </p:nvSpPr>
          <p:spPr>
            <a:xfrm>
              <a:off x="19113480" y="36291960"/>
              <a:ext cx="10585440" cy="792000"/>
            </a:xfrm>
            <a:prstGeom prst="rect">
              <a:avLst/>
            </a:prstGeom>
            <a:gradFill rotWithShape="0">
              <a:gsLst>
                <a:gs pos="0">
                  <a:srgbClr val="6fd64d"/>
                </a:gs>
                <a:gs pos="100000">
                  <a:srgbClr val="55a03c"/>
                </a:gs>
              </a:gsLst>
              <a:lin ang="5400000"/>
            </a:gradFill>
            <a:ln w="0">
              <a:noFill/>
            </a:ln>
            <a:effectLst>
              <a:outerShdw dist="255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7" name="Rectangle 102"/>
            <p:cNvSpPr/>
            <p:nvPr/>
          </p:nvSpPr>
          <p:spPr>
            <a:xfrm>
              <a:off x="19110240" y="36291960"/>
              <a:ext cx="106045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ff"/>
                  </a:solidFill>
                  <a:uFillTx/>
                  <a:latin typeface="Calibri Bold"/>
                  <a:ea typeface="Calibri Bold"/>
                </a:rPr>
                <a:t>Η ΠΡΑΣΙΝΗ ΧΗΜΕΙΑ ΠΡΟΤΕΙΝΕΙ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8" name="Group 106"/>
          <p:cNvGrpSpPr/>
          <p:nvPr/>
        </p:nvGrpSpPr>
        <p:grpSpPr>
          <a:xfrm>
            <a:off x="19113480" y="28874880"/>
            <a:ext cx="10553760" cy="936720"/>
            <a:chOff x="19113480" y="28874880"/>
            <a:chExt cx="10553760" cy="936720"/>
          </a:xfrm>
        </p:grpSpPr>
        <p:sp>
          <p:nvSpPr>
            <p:cNvPr id="139" name="Rectangle 104"/>
            <p:cNvSpPr/>
            <p:nvPr/>
          </p:nvSpPr>
          <p:spPr>
            <a:xfrm>
              <a:off x="19113480" y="28874880"/>
              <a:ext cx="10541160" cy="936720"/>
            </a:xfrm>
            <a:prstGeom prst="rect">
              <a:avLst/>
            </a:prstGeom>
            <a:gradFill rotWithShape="0">
              <a:gsLst>
                <a:gs pos="0">
                  <a:srgbClr val="6fd64d"/>
                </a:gs>
                <a:gs pos="100000">
                  <a:srgbClr val="55a03c"/>
                </a:gs>
              </a:gsLst>
              <a:lin ang="5400000"/>
            </a:gradFill>
            <a:ln w="0">
              <a:noFill/>
            </a:ln>
            <a:effectLst>
              <a:outerShdw dist="255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0" name="Rectangle 105"/>
            <p:cNvSpPr/>
            <p:nvPr/>
          </p:nvSpPr>
          <p:spPr>
            <a:xfrm>
              <a:off x="19113480" y="28874880"/>
              <a:ext cx="10553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ff"/>
                  </a:solidFill>
                  <a:uFillTx/>
                  <a:latin typeface="Calibri Bold"/>
                  <a:ea typeface="Calibri Bold"/>
                </a:rPr>
                <a:t>Η ΠΡΑΣΙΝΗ ΧΗΜΕΙΑ ΠΡΟΤΕΙΝΕΙ</a:t>
              </a: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1" name="Rectangle 107"/>
          <p:cNvSpPr/>
          <p:nvPr/>
        </p:nvSpPr>
        <p:spPr>
          <a:xfrm>
            <a:off x="1584720" y="22105800"/>
            <a:ext cx="9934200" cy="9298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2556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Η κλιματική αλλαγή οδηγεί στην τήξη των πάγων και στην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ανύψωση της στάθμης της θάλασσας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42" name="Group 110"/>
          <p:cNvGrpSpPr/>
          <p:nvPr/>
        </p:nvGrpSpPr>
        <p:grpSpPr>
          <a:xfrm>
            <a:off x="2692440" y="23831640"/>
            <a:ext cx="446040" cy="2317680"/>
            <a:chOff x="2692440" y="23831640"/>
            <a:chExt cx="446040" cy="2317680"/>
          </a:xfrm>
        </p:grpSpPr>
        <p:sp>
          <p:nvSpPr>
            <p:cNvPr id="143" name="Rectangle 108"/>
            <p:cNvSpPr/>
            <p:nvPr/>
          </p:nvSpPr>
          <p:spPr>
            <a:xfrm rot="16200000">
              <a:off x="1756440" y="24767280"/>
              <a:ext cx="2317680" cy="446040"/>
            </a:xfrm>
            <a:prstGeom prst="rect">
              <a:avLst/>
            </a:prstGeom>
            <a:solidFill>
              <a:srgbClr val="ee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44" name="Rectangle 109"/>
            <p:cNvSpPr/>
            <p:nvPr/>
          </p:nvSpPr>
          <p:spPr>
            <a:xfrm rot="16200000">
              <a:off x="1756440" y="24767280"/>
              <a:ext cx="23176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Bold"/>
                  <a:ea typeface="Calibri Bold"/>
                </a:rPr>
                <a:t>ΣΥΝΕΠΕΙΕΣ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45" name="Rectangle 111"/>
          <p:cNvSpPr/>
          <p:nvPr/>
        </p:nvSpPr>
        <p:spPr>
          <a:xfrm>
            <a:off x="3564000" y="23474520"/>
            <a:ext cx="713736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Καταστροφή των παράκτιων οικισμών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Καταστροφή των παραθαλάσσιων οικοσυστημάτων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Πλήγμα στον τουρισμό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Κίνδυνοι για τη ναυσιπλοΐα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Μαζική μετανάστευση πληθυσμών λόγω πλημμυρών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Υφαλμύρωση των υδροφορέων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Απελευθέρωση του εγκλωβισμένου μεθανίου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Αύξηση της απορροφούμενης ηλιακής ακτινοβολίας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Μείωση των αποθεμάτων γλυκού νερού, λειψυδρία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6" name="Picture 112" descr=""/>
          <p:cNvPicPr/>
          <p:nvPr/>
        </p:nvPicPr>
        <p:blipFill>
          <a:blip r:embed="rId16"/>
          <a:stretch/>
        </p:blipFill>
        <p:spPr>
          <a:xfrm>
            <a:off x="11112480" y="22547160"/>
            <a:ext cx="2857680" cy="405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47" name="Picture 113" descr=""/>
          <p:cNvPicPr/>
          <p:nvPr/>
        </p:nvPicPr>
        <p:blipFill>
          <a:blip r:embed="rId17"/>
          <a:stretch/>
        </p:blipFill>
        <p:spPr>
          <a:xfrm>
            <a:off x="14088960" y="2253780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4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4088960" y="24731640"/>
            <a:ext cx="2857680" cy="1866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9" name="Group 117"/>
          <p:cNvGrpSpPr/>
          <p:nvPr/>
        </p:nvGrpSpPr>
        <p:grpSpPr>
          <a:xfrm>
            <a:off x="19113480" y="23402880"/>
            <a:ext cx="10540800" cy="1434960"/>
            <a:chOff x="19113480" y="23402880"/>
            <a:chExt cx="10540800" cy="1434960"/>
          </a:xfrm>
        </p:grpSpPr>
        <p:sp>
          <p:nvSpPr>
            <p:cNvPr id="150" name="Rectangle 115"/>
            <p:cNvSpPr/>
            <p:nvPr/>
          </p:nvSpPr>
          <p:spPr>
            <a:xfrm>
              <a:off x="19113480" y="23402880"/>
              <a:ext cx="10529640" cy="1434960"/>
            </a:xfrm>
            <a:prstGeom prst="rect">
              <a:avLst/>
            </a:prstGeom>
            <a:solidFill>
              <a:srgbClr val="7cca62"/>
            </a:solidFill>
            <a:ln w="9360">
              <a:solidFill>
                <a:srgbClr val="50a633"/>
              </a:solidFill>
              <a:round/>
            </a:ln>
            <a:effectLst>
              <a:outerShdw dist="255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1" name="Rectangle 116"/>
            <p:cNvSpPr/>
            <p:nvPr/>
          </p:nvSpPr>
          <p:spPr>
            <a:xfrm>
              <a:off x="19113480" y="23402880"/>
              <a:ext cx="10540800" cy="14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Πρόληψη και μείωση των συνεπειών της κλιματικής αλλαγής   με     τη μείωση των εκπομπών θερμοκηπιακών αερίων  με τους τρόπους που προαναφέρθηκαν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2" name="Rectangle 118"/>
          <p:cNvSpPr/>
          <p:nvPr/>
        </p:nvSpPr>
        <p:spPr>
          <a:xfrm>
            <a:off x="19550160" y="25201440"/>
            <a:ext cx="96138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Δημιουργία έργων υποδομής για την αντιμετώπιση των συνεπειών         των πλημμυρών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Μετακίνηση υποδομών και πληθυσμών από τις απειλούμενες περιοχές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3" name="Group 121"/>
          <p:cNvGrpSpPr/>
          <p:nvPr/>
        </p:nvGrpSpPr>
        <p:grpSpPr>
          <a:xfrm>
            <a:off x="17808480" y="23547240"/>
            <a:ext cx="444600" cy="2400480"/>
            <a:chOff x="17808480" y="23547240"/>
            <a:chExt cx="444600" cy="2400480"/>
          </a:xfrm>
        </p:grpSpPr>
        <p:sp>
          <p:nvSpPr>
            <p:cNvPr id="154" name="Rectangle 119"/>
            <p:cNvSpPr/>
            <p:nvPr/>
          </p:nvSpPr>
          <p:spPr>
            <a:xfrm rot="16200000">
              <a:off x="16836840" y="24518880"/>
              <a:ext cx="2387880" cy="444600"/>
            </a:xfrm>
            <a:prstGeom prst="rect">
              <a:avLst/>
            </a:prstGeom>
            <a:solidFill>
              <a:srgbClr val="ee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55" name="Rectangle 120"/>
            <p:cNvSpPr/>
            <p:nvPr/>
          </p:nvSpPr>
          <p:spPr>
            <a:xfrm rot="16200000">
              <a:off x="16830360" y="24525000"/>
              <a:ext cx="24004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Bold"/>
                  <a:ea typeface="Calibri Bold"/>
                </a:rPr>
                <a:t>ΜΕΤΡΑ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56" name="Rectangle 122"/>
          <p:cNvSpPr/>
          <p:nvPr/>
        </p:nvSpPr>
        <p:spPr>
          <a:xfrm>
            <a:off x="5946840" y="28587600"/>
            <a:ext cx="5878800" cy="5641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2556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Bold"/>
                <a:ea typeface="Calibri Bold"/>
              </a:rPr>
              <a:t>Τα δάση καταστρέφονται από</a:t>
            </a: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7" name="Picture 123" descr=""/>
          <p:cNvPicPr/>
          <p:nvPr/>
        </p:nvPicPr>
        <p:blipFill>
          <a:blip r:embed="rId20"/>
          <a:stretch/>
        </p:blipFill>
        <p:spPr>
          <a:xfrm>
            <a:off x="12825360" y="29868840"/>
            <a:ext cx="2793960" cy="151128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26"/>
          <p:cNvGrpSpPr/>
          <p:nvPr/>
        </p:nvGrpSpPr>
        <p:grpSpPr>
          <a:xfrm>
            <a:off x="7128000" y="29856240"/>
            <a:ext cx="2868480" cy="1574640"/>
            <a:chOff x="7128000" y="29856240"/>
            <a:chExt cx="2868480" cy="1574640"/>
          </a:xfrm>
        </p:grpSpPr>
        <p:sp>
          <p:nvSpPr>
            <p:cNvPr id="159" name="Rectangle 124"/>
            <p:cNvSpPr/>
            <p:nvPr/>
          </p:nvSpPr>
          <p:spPr>
            <a:xfrm>
              <a:off x="7128000" y="29856240"/>
              <a:ext cx="2868480" cy="157320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pic>
          <p:nvPicPr>
            <p:cNvPr id="160" name="Picture 125" descr=""/>
            <p:cNvPicPr/>
            <p:nvPr/>
          </p:nvPicPr>
          <p:blipFill>
            <a:blip r:embed="rId21"/>
            <a:stretch/>
          </p:blipFill>
          <p:spPr>
            <a:xfrm>
              <a:off x="7128000" y="29856240"/>
              <a:ext cx="2868480" cy="15746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161" name="Picture 127" descr=""/>
          <p:cNvPicPr/>
          <p:nvPr/>
        </p:nvPicPr>
        <p:blipFill>
          <a:blip r:embed="rId22"/>
          <a:stretch/>
        </p:blipFill>
        <p:spPr>
          <a:xfrm>
            <a:off x="1793880" y="29849760"/>
            <a:ext cx="2879640" cy="15843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2" name="Rectangle 128"/>
          <p:cNvSpPr/>
          <p:nvPr/>
        </p:nvSpPr>
        <p:spPr>
          <a:xfrm>
            <a:off x="7638480" y="29260800"/>
            <a:ext cx="185256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Αποψίλωση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29"/>
          <p:cNvSpPr/>
          <p:nvPr/>
        </p:nvSpPr>
        <p:spPr>
          <a:xfrm>
            <a:off x="11291760" y="29243160"/>
            <a:ext cx="617904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Ατμοσφαιρική ρύπανση (π.χ. όξινη βροχή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30"/>
          <p:cNvSpPr/>
          <p:nvPr/>
        </p:nvSpPr>
        <p:spPr>
          <a:xfrm>
            <a:off x="2255400" y="29240280"/>
            <a:ext cx="155844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Πυρκαγιέ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ς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5" name="Group 133"/>
          <p:cNvGrpSpPr/>
          <p:nvPr/>
        </p:nvGrpSpPr>
        <p:grpSpPr>
          <a:xfrm>
            <a:off x="19113480" y="30748320"/>
            <a:ext cx="10604520" cy="863640"/>
            <a:chOff x="19113480" y="30748320"/>
            <a:chExt cx="10604520" cy="863640"/>
          </a:xfrm>
        </p:grpSpPr>
        <p:sp>
          <p:nvSpPr>
            <p:cNvPr id="166" name="Rectangle 131"/>
            <p:cNvSpPr/>
            <p:nvPr/>
          </p:nvSpPr>
          <p:spPr>
            <a:xfrm>
              <a:off x="19113480" y="30748320"/>
              <a:ext cx="10585440" cy="863640"/>
            </a:xfrm>
            <a:prstGeom prst="rect">
              <a:avLst/>
            </a:prstGeom>
            <a:gradFill rotWithShape="0">
              <a:gsLst>
                <a:gs pos="0">
                  <a:srgbClr val="6fd64d"/>
                </a:gs>
                <a:gs pos="100000">
                  <a:srgbClr val="55a03c"/>
                </a:gs>
              </a:gsLst>
              <a:lin ang="5400000"/>
            </a:gradFill>
            <a:ln w="0">
              <a:noFill/>
            </a:ln>
            <a:effectLst>
              <a:outerShdw dist="25560" dir="5400000" blurRad="0" rotWithShape="0">
                <a:srgbClr val="00000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7" name="Rectangle 132"/>
            <p:cNvSpPr/>
            <p:nvPr/>
          </p:nvSpPr>
          <p:spPr>
            <a:xfrm>
              <a:off x="19113480" y="30748320"/>
              <a:ext cx="1060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Πρόληψη και προστασία από πυρκαγιές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68" name="Group 136"/>
          <p:cNvGrpSpPr/>
          <p:nvPr/>
        </p:nvGrpSpPr>
        <p:grpSpPr>
          <a:xfrm>
            <a:off x="19042200" y="33051600"/>
            <a:ext cx="10604520" cy="990720"/>
            <a:chOff x="19042200" y="33051600"/>
            <a:chExt cx="10604520" cy="990720"/>
          </a:xfrm>
        </p:grpSpPr>
        <p:sp>
          <p:nvSpPr>
            <p:cNvPr id="169" name="Rectangle 134"/>
            <p:cNvSpPr/>
            <p:nvPr/>
          </p:nvSpPr>
          <p:spPr>
            <a:xfrm>
              <a:off x="19042200" y="33051600"/>
              <a:ext cx="10585440" cy="990720"/>
            </a:xfrm>
            <a:prstGeom prst="rect">
              <a:avLst/>
            </a:prstGeom>
            <a:gradFill rotWithShape="0">
              <a:gsLst>
                <a:gs pos="0">
                  <a:srgbClr val="6fd64d"/>
                </a:gs>
                <a:gs pos="100000">
                  <a:srgbClr val="55a03c"/>
                </a:gs>
              </a:gsLst>
              <a:lin ang="5400000"/>
            </a:gradFill>
            <a:ln w="9360">
              <a:solidFill>
                <a:srgbClr val="77c75d"/>
              </a:solidFill>
              <a:round/>
            </a:ln>
            <a:effectLst>
              <a:outerShdw dist="255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0" name="Rectangle 135"/>
            <p:cNvSpPr/>
            <p:nvPr/>
          </p:nvSpPr>
          <p:spPr>
            <a:xfrm>
              <a:off x="19042200" y="33051600"/>
              <a:ext cx="106045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Μείωση των ατμοσφαιρικών ρύπων με την εφαρμογή των          προτάσεων της Πράσινης Χημείας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71" name="Group 139"/>
          <p:cNvGrpSpPr/>
          <p:nvPr/>
        </p:nvGrpSpPr>
        <p:grpSpPr>
          <a:xfrm>
            <a:off x="19042200" y="31972320"/>
            <a:ext cx="10653480" cy="520560"/>
            <a:chOff x="19042200" y="31972320"/>
            <a:chExt cx="10653480" cy="520560"/>
          </a:xfrm>
        </p:grpSpPr>
        <p:sp>
          <p:nvSpPr>
            <p:cNvPr id="172" name="Rectangle 137"/>
            <p:cNvSpPr/>
            <p:nvPr/>
          </p:nvSpPr>
          <p:spPr>
            <a:xfrm>
              <a:off x="19042200" y="31972320"/>
              <a:ext cx="10642320" cy="520560"/>
            </a:xfrm>
            <a:prstGeom prst="rect">
              <a:avLst/>
            </a:prstGeom>
            <a:gradFill rotWithShape="0">
              <a:gsLst>
                <a:gs pos="0">
                  <a:srgbClr val="6fd64d"/>
                </a:gs>
                <a:gs pos="100000">
                  <a:srgbClr val="55a03c"/>
                </a:gs>
              </a:gsLst>
              <a:lin ang="5400000"/>
            </a:gradFill>
            <a:ln w="0">
              <a:noFill/>
            </a:ln>
            <a:effectLst>
              <a:outerShdw dist="25560" dir="5400000" blurRad="0" rotWithShape="0">
                <a:srgbClr val="00000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73" name="Rectangle 138"/>
            <p:cNvSpPr/>
            <p:nvPr/>
          </p:nvSpPr>
          <p:spPr>
            <a:xfrm>
              <a:off x="19042200" y="31972320"/>
              <a:ext cx="1065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Προστασία και αυστηρο</a:t>
              </a:r>
              <a:r>
                <a:rPr b="0" lang="el-GR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ύς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 </a:t>
              </a:r>
              <a:r>
                <a:rPr b="0" lang="el-GR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ε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λ</a:t>
              </a:r>
              <a:r>
                <a:rPr b="0" lang="el-GR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έ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γχο</a:t>
              </a:r>
              <a:r>
                <a:rPr b="0" lang="el-GR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υς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 για την αποψίλωση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74" name="Rectangle 140"/>
          <p:cNvSpPr/>
          <p:nvPr/>
        </p:nvSpPr>
        <p:spPr>
          <a:xfrm>
            <a:off x="749160" y="36504720"/>
            <a:ext cx="17500680" cy="1447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2556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1"/>
          <p:cNvSpPr/>
          <p:nvPr/>
        </p:nvSpPr>
        <p:spPr>
          <a:xfrm>
            <a:off x="1014480" y="36506160"/>
            <a:ext cx="172465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Ερημοποίησ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είναι η υποβάθμιση της γης σε άνυδρες, ημιάνυδρες και ξηρές με χαμηλή σχετική υγρασία περιοχές,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που σταδιακά γίνετα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μη καλλιεργ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Calibri"/>
              </a:rPr>
              <a:t>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σιμη, εξαιτίας διαφόρων παραγόντων, μεταξύ των οποίων </a:t>
            </a: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η κλιματική αλλαγή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και οι </a:t>
            </a:r>
            <a:r>
              <a:rPr b="0" lang="en-US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δραστηριότητες του ανθρώπου</a:t>
            </a:r>
            <a:r>
              <a:rPr b="0" lang="el-GR" sz="2800" spc="-1" strike="noStrike">
                <a:solidFill>
                  <a:srgbClr val="000000"/>
                </a:solidFill>
                <a:latin typeface="Calibri Bold"/>
                <a:ea typeface="Calibri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Rectangle 142"/>
          <p:cNvSpPr/>
          <p:nvPr/>
        </p:nvSpPr>
        <p:spPr>
          <a:xfrm>
            <a:off x="966960" y="38165040"/>
            <a:ext cx="6362640" cy="31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 Bold"/>
                <a:ea typeface="Calibri Bold"/>
              </a:rPr>
              <a:t>Πώς εκδηλώνεται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Η παραγωγή μειώνεται σταδιακά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Πέφτει ο υδροφόρος ορίζοντας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Το νερό και το έδαφος εμπλουτίζεται σε άλατα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Η διάβρωση εντείνεται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Εξαφανίζεται η τοπική βλάστηση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Σχηματίζονται ξεροπόταμοι και αμμόλοφοι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Rectangle 143"/>
          <p:cNvSpPr/>
          <p:nvPr/>
        </p:nvSpPr>
        <p:spPr>
          <a:xfrm>
            <a:off x="7951680" y="38020680"/>
            <a:ext cx="1039500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 Bold"/>
                <a:ea typeface="Calibri Bold"/>
              </a:rPr>
              <a:t>Αιτίες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Κοινωνικές και οικονομικές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(αύξηση του πληθυσμού,αστικοποίηση, κατάχρηση των φυσικών πόρων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Υπερβόσκηση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Εντατικές γεωργικές καλλιέργειες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Καταστροφή της φυσικής βλάστησης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Μείωση της βιοποικιλότητας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Bold"/>
                <a:ea typeface="Calibri Bold"/>
              </a:rPr>
              <a:t>Κλιματική αλλαγή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78" name="Group 146"/>
          <p:cNvGrpSpPr/>
          <p:nvPr/>
        </p:nvGrpSpPr>
        <p:grpSpPr>
          <a:xfrm>
            <a:off x="19113480" y="37515960"/>
            <a:ext cx="10604520" cy="990360"/>
            <a:chOff x="19113480" y="37515960"/>
            <a:chExt cx="10604520" cy="990360"/>
          </a:xfrm>
        </p:grpSpPr>
        <p:sp>
          <p:nvSpPr>
            <p:cNvPr id="179" name="Rectangle 144"/>
            <p:cNvSpPr/>
            <p:nvPr/>
          </p:nvSpPr>
          <p:spPr>
            <a:xfrm>
              <a:off x="19113480" y="37515960"/>
              <a:ext cx="10585440" cy="990360"/>
            </a:xfrm>
            <a:prstGeom prst="rect">
              <a:avLst/>
            </a:prstGeom>
            <a:gradFill rotWithShape="0">
              <a:gsLst>
                <a:gs pos="0">
                  <a:srgbClr val="6fd64d"/>
                </a:gs>
                <a:gs pos="100000">
                  <a:srgbClr val="55a03c"/>
                </a:gs>
              </a:gsLst>
              <a:lin ang="5400000"/>
            </a:gradFill>
            <a:ln w="9360">
              <a:solidFill>
                <a:srgbClr val="77c75d"/>
              </a:solidFill>
              <a:round/>
            </a:ln>
            <a:effectLst>
              <a:outerShdw dist="255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0" name="Rectangle 145"/>
            <p:cNvSpPr/>
            <p:nvPr/>
          </p:nvSpPr>
          <p:spPr>
            <a:xfrm>
              <a:off x="19113480" y="37515960"/>
              <a:ext cx="1060452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Μείωση των συνεπειών της κλιματικής αλλαγής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     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με τον περιορισμό των θερμοκηπιακών αερίων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81" name="Group 149"/>
          <p:cNvGrpSpPr/>
          <p:nvPr/>
        </p:nvGrpSpPr>
        <p:grpSpPr>
          <a:xfrm>
            <a:off x="19113480" y="38957400"/>
            <a:ext cx="10656720" cy="2950560"/>
            <a:chOff x="19113480" y="38957400"/>
            <a:chExt cx="10656720" cy="2950560"/>
          </a:xfrm>
        </p:grpSpPr>
        <p:sp>
          <p:nvSpPr>
            <p:cNvPr id="182" name="Rectangle 147"/>
            <p:cNvSpPr/>
            <p:nvPr/>
          </p:nvSpPr>
          <p:spPr>
            <a:xfrm>
              <a:off x="19113480" y="38957400"/>
              <a:ext cx="10586880" cy="2526480"/>
            </a:xfrm>
            <a:prstGeom prst="rect">
              <a:avLst/>
            </a:prstGeom>
            <a:gradFill rotWithShape="0">
              <a:gsLst>
                <a:gs pos="0">
                  <a:srgbClr val="6fd64d"/>
                </a:gs>
                <a:gs pos="100000">
                  <a:srgbClr val="55a03c"/>
                </a:gs>
              </a:gsLst>
              <a:lin ang="5400000"/>
            </a:gradFill>
            <a:ln w="0">
              <a:noFill/>
            </a:ln>
            <a:effectLst>
              <a:outerShdw dist="25560" dir="5400000" blurRad="0" rotWithShape="0">
                <a:srgbClr val="00000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83" name="Rectangle 148"/>
            <p:cNvSpPr/>
            <p:nvPr/>
          </p:nvSpPr>
          <p:spPr>
            <a:xfrm>
              <a:off x="19113480" y="38957400"/>
              <a:ext cx="10656720" cy="29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Περιορισμό </a:t>
              </a:r>
              <a:r>
                <a:rPr b="0" lang="el-GR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των 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παρασιτοκτόνων</a:t>
              </a:r>
              <a:r>
                <a:rPr b="0" lang="el-GR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 που καταστρέφουν τη βιοποικιλότητα μιας περιοχής και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 </a:t>
              </a:r>
              <a:r>
                <a:rPr b="0" lang="el-GR" sz="2800" spc="-1" strike="noStrike">
                  <a:solidFill>
                    <a:srgbClr val="ffffff"/>
                  </a:solidFill>
                  <a:latin typeface="Calibri Bold"/>
                  <a:ea typeface="Calibri Bold"/>
                </a:rPr>
                <a:t>Περιορισμό των  χημικών λιπασμάτων που επιβαρύνουν τα εδάφη και τα  κάνουν  ακατάλληλα για καλλιέργεια  και επικίνδυνα για την ανθρώπινη υγεία.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184" name="Rectangle 150"/>
          <p:cNvSpPr/>
          <p:nvPr/>
        </p:nvSpPr>
        <p:spPr>
          <a:xfrm>
            <a:off x="5904000" y="41452920"/>
            <a:ext cx="18786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5" name="Picture 151" descr=""/>
          <p:cNvPicPr/>
          <p:nvPr/>
        </p:nvPicPr>
        <p:blipFill>
          <a:blip r:embed="rId23"/>
          <a:stretch/>
        </p:blipFill>
        <p:spPr>
          <a:xfrm>
            <a:off x="15584400" y="39820680"/>
            <a:ext cx="2664000" cy="1511640"/>
          </a:xfrm>
          <a:prstGeom prst="rect">
            <a:avLst/>
          </a:prstGeom>
          <a:ln w="0">
            <a:noFill/>
          </a:ln>
        </p:spPr>
      </p:pic>
      <p:sp>
        <p:nvSpPr>
          <p:cNvPr id="186" name="Rounded Rectangle 152"/>
          <p:cNvSpPr/>
          <p:nvPr/>
        </p:nvSpPr>
        <p:spPr>
          <a:xfrm>
            <a:off x="5035680" y="41981400"/>
            <a:ext cx="20523240" cy="1224000"/>
          </a:xfrm>
          <a:prstGeom prst="roundRect">
            <a:avLst>
              <a:gd name="adj" fmla="val 16667"/>
            </a:avLst>
          </a:prstGeom>
          <a:solidFill>
            <a:srgbClr val="eee6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87" name="TextBox 154" descr=""/>
          <p:cNvPicPr/>
          <p:nvPr/>
        </p:nvPicPr>
        <p:blipFill>
          <a:blip r:embed="rId24"/>
          <a:stretch/>
        </p:blipFill>
        <p:spPr>
          <a:xfrm>
            <a:off x="5718240" y="42049800"/>
            <a:ext cx="12460320" cy="15127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55"/>
          <p:cNvSpPr/>
          <p:nvPr/>
        </p:nvSpPr>
        <p:spPr>
          <a:xfrm>
            <a:off x="17818200" y="42035400"/>
            <a:ext cx="70578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25"/>
              </a:rPr>
              <a:t>http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26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27"/>
              </a:rPr>
              <a:t>www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2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29"/>
              </a:rPr>
              <a:t>exploratorium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3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31"/>
              </a:rPr>
              <a:t>edu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32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33"/>
              </a:rPr>
              <a:t>climate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34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35"/>
              </a:rPr>
              <a:t>atmosphere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36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37"/>
              </a:rPr>
              <a:t>index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38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39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buClr>
                <a:srgbClr val="0099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0"/>
              </a:rPr>
              <a:t>http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41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2"/>
              </a:rPr>
              <a:t>archive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43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4"/>
              </a:rPr>
              <a:t>greenpeace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45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6"/>
              </a:rPr>
              <a:t>org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47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48"/>
              </a:rPr>
              <a:t>climate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49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50"/>
              </a:rPr>
              <a:t>science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51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52"/>
              </a:rPr>
              <a:t>reports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53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54"/>
              </a:rPr>
              <a:t>desertification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55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56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buClr>
                <a:srgbClr val="0099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57"/>
              </a:rPr>
              <a:t>http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58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59"/>
              </a:rPr>
              <a:t>www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60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1"/>
              </a:rPr>
              <a:t>cyprus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62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3"/>
              </a:rPr>
              <a:t>gov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64"/>
              </a:rPr>
              <a:t>.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5"/>
              </a:rPr>
              <a:t>cy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66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7"/>
              </a:rPr>
              <a:t>moa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68"/>
              </a:rPr>
              <a:t>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Gill Sans"/>
                <a:hlinkClick r:id="rId69"/>
              </a:rPr>
              <a:t>agriculture</a:t>
            </a:r>
            <a:r>
              <a:rPr b="0" lang="el-GR" sz="1400" spc="-1" strike="noStrike" u="sng">
                <a:solidFill>
                  <a:srgbClr val="009999"/>
                </a:solidFill>
                <a:uFillTx/>
                <a:latin typeface="Gill Sans"/>
                <a:hlinkClick r:id="rId70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ill Sans"/>
              </a:rPr>
              <a:t>nsf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Box 156"/>
          <p:cNvSpPr/>
          <p:nvPr/>
        </p:nvSpPr>
        <p:spPr>
          <a:xfrm>
            <a:off x="14362560" y="4205304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Gill Sans"/>
              </a:rPr>
              <a:t>ΒΙΒΛΙΟΓΡΑΦΙΑ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opi</dc:creator>
  <dc:description/>
  <dc:language>en-US</dc:language>
  <cp:lastModifiedBy>Dimitris Giannakoudakis</cp:lastModifiedBy>
  <dcterms:modified xsi:type="dcterms:W3CDTF">2012-01-30T20:18:16Z</dcterms:modified>
  <cp:revision>23</cp:revision>
  <dc:subject/>
  <dc:title>Slide 1</dc:title>
</cp:coreProperties>
</file>